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23.jpeg" ContentType="image/jpeg"/>
  <Override PartName="/ppt/media/image42.wmf" ContentType="image/x-wmf"/>
  <Override PartName="/ppt/media/image14.jpeg" ContentType="image/jpeg"/>
  <Override PartName="/ppt/media/image2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41.wmf" ContentType="image/x-wmf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9.jpeg" ContentType="image/jpeg"/>
  <Override PartName="/ppt/media/image36.png" ContentType="image/png"/>
  <Override PartName="/ppt/media/image43.wmf" ContentType="image/x-wmf"/>
  <Override PartName="/ppt/media/image5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2FF8-8F02-45F4-933F-C66BEBACB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CFDB-DBFC-4926-9CF0-B5785EA9F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C44E-0B03-4448-AF88-BB4F7852A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CAAE-7781-4F7A-96AE-B08C0C929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1312-DE75-43E9-86A3-A11C61294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A1FA-FB10-4046-A313-6A364643A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6A07-1BEB-4344-9E98-11478364D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422D-5760-49DE-AC65-41BA13B33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99F4-82C7-4CEE-8EB8-32E3B443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958D-0C98-42BA-9FAC-C27D8F76F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A06D-538B-489B-9F7C-745D757D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65B0-B35B-495C-AA08-41493EE1A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93BB-D231-4139-8793-9B2176DA7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1939-7447-4276-9F6E-AA4B27C4E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9206-AFDF-48D4-B716-9DF7C6928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435F-A727-4583-98F3-03E48C05C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A520-AFD4-430D-BC73-CBD54B155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74A0-15DA-4494-9E78-C67607D8E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33A0-FDFB-43A6-8B3D-385E70B78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E104-6B14-4764-B0A2-BC08DE250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BEA5-047B-4DB4-B00A-B03FA1F1B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B385-E03F-43DE-ACBB-D774AD168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34E9-43EE-4ECD-9BED-C3BC0157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6949-AE55-48FB-B1E3-30A2A347D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42A9-9C01-4ED4-8164-C1D726DF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E85-31D4-408E-8A17-2ED10BA3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90D-B1E5-4EAA-A095-A7D865D5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31D-4687-42A6-A43C-03D3C75D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0B0-02F9-4F3F-A175-B147F72C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6357-2283-4C74-9FC3-0AD0D4A0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16A-563C-4160-8361-60574C34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5FB-EC71-4E53-BE3B-5281AF6E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69B-D245-4965-B340-8CB2F764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A3B-4EE1-40CE-8CE4-910CE65F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692-D9D4-4114-A5F8-2EE9D015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8C6-1D9B-44C8-B6C5-6DB2D3AF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20A9-9C10-4E39-8985-701B36301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T Script (Unreg.) Lightning"/>
              </a:rPr>
              <a:t>TL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T Script (Unreg.) Lightning"/>
              </a:rPr>
              <a:t>WISH LI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5" descr="beatle"/>
          <p:cNvPicPr/>
          <p:nvPr/>
        </p:nvPicPr>
        <p:blipFill>
          <a:blip r:embed="rId1"/>
          <a:srcRect l="0" t="24173" r="0" b="22414"/>
          <a:stretch/>
        </p:blipFill>
        <p:spPr>
          <a:xfrm>
            <a:off x="457200" y="1143000"/>
            <a:ext cx="380988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31909"/>
          <p:cNvPicPr/>
          <p:nvPr/>
        </p:nvPicPr>
        <p:blipFill>
          <a:blip r:embed="rId2"/>
          <a:srcRect l="0" t="16473" r="0" b="14926"/>
          <a:stretch/>
        </p:blipFill>
        <p:spPr>
          <a:xfrm>
            <a:off x="4800600" y="2438280"/>
            <a:ext cx="3657600" cy="2186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2"/>
          <p:cNvSpPr/>
          <p:nvPr/>
        </p:nvSpPr>
        <p:spPr>
          <a:xfrm>
            <a:off x="4495680" y="114300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kswagen Bea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4,000 = $4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3,000 = $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685800" y="32767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d 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32,000 = $6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20,000 = $4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4876920" y="51055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undai 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0,000 = $18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5,000 =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b33059-hyundai-accent"/>
          <p:cNvPicPr/>
          <p:nvPr/>
        </p:nvPicPr>
        <p:blipFill>
          <a:blip r:embed="rId3"/>
          <a:stretch/>
        </p:blipFill>
        <p:spPr>
          <a:xfrm>
            <a:off x="380880" y="4343400"/>
            <a:ext cx="3440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mini_0005"/>
          <p:cNvPicPr/>
          <p:nvPr/>
        </p:nvPicPr>
        <p:blipFill>
          <a:blip r:embed="rId1"/>
          <a:srcRect l="9836" t="17874" r="9836" b="13100"/>
          <a:stretch/>
        </p:blipFill>
        <p:spPr>
          <a:xfrm>
            <a:off x="304920" y="304920"/>
            <a:ext cx="3733560" cy="2133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495680" y="68580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 Convert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1,000 = $4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1,000 = $2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04920" y="28195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vrolet Silve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8,000 = $5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8,000 = $3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Spallone2Big"/>
          <p:cNvPicPr/>
          <p:nvPr/>
        </p:nvPicPr>
        <p:blipFill>
          <a:blip r:embed="rId2"/>
          <a:stretch/>
        </p:blipFill>
        <p:spPr>
          <a:xfrm>
            <a:off x="4495680" y="1981080"/>
            <a:ext cx="3781440" cy="255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Porsche%20Boxster%20S%202005%20-%201024x768"/>
          <p:cNvPicPr/>
          <p:nvPr/>
        </p:nvPicPr>
        <p:blipFill>
          <a:blip r:embed="rId3"/>
          <a:stretch/>
        </p:blipFill>
        <p:spPr>
          <a:xfrm>
            <a:off x="457200" y="4038480"/>
            <a:ext cx="3367080" cy="25243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"/>
          <p:cNvSpPr/>
          <p:nvPr/>
        </p:nvSpPr>
        <p:spPr>
          <a:xfrm>
            <a:off x="4114800" y="48769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sche Box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50,000 = $9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8,000 = $6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648320" y="83808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ysler Town and Cou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7,000 = $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9,000 = $3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5fw"/>
          <p:cNvPicPr/>
          <p:nvPr/>
        </p:nvPicPr>
        <p:blipFill>
          <a:blip r:embed="rId1"/>
          <a:stretch/>
        </p:blipFill>
        <p:spPr>
          <a:xfrm>
            <a:off x="609480" y="304920"/>
            <a:ext cx="3505320" cy="2184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685800" y="320040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-year-old Volvo Tur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7,000 = $1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326"/>
          <p:cNvPicPr/>
          <p:nvPr/>
        </p:nvPicPr>
        <p:blipFill>
          <a:blip r:embed="rId2"/>
          <a:srcRect l="0" t="11886" r="0" b="20797"/>
          <a:stretch/>
        </p:blipFill>
        <p:spPr>
          <a:xfrm>
            <a:off x="4876920" y="2819520"/>
            <a:ext cx="3552840" cy="1795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4724280" y="525780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smobile Intri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4,500 =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2" descr="2001_Oldsmobile_Intrigue_P2888"/>
          <p:cNvPicPr/>
          <p:nvPr/>
        </p:nvPicPr>
        <p:blipFill>
          <a:blip r:embed="rId3"/>
          <a:srcRect l="0" t="20369" r="0" b="20369"/>
          <a:stretch/>
        </p:blipFill>
        <p:spPr>
          <a:xfrm>
            <a:off x="762120" y="4876920"/>
            <a:ext cx="3085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fury"/>
          <p:cNvPicPr/>
          <p:nvPr/>
        </p:nvPicPr>
        <p:blipFill>
          <a:blip r:embed="rId1"/>
          <a:srcRect l="13975" t="27864" r="22984" b="27864"/>
          <a:stretch/>
        </p:blipFill>
        <p:spPr>
          <a:xfrm>
            <a:off x="304920" y="15228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114800" y="45720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ece of Crap 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,200 =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used: $700 = $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CC06_ZBDS27_2DA_PRN_APA_XXX_VBX"/>
          <p:cNvPicPr/>
          <p:nvPr/>
        </p:nvPicPr>
        <p:blipFill>
          <a:blip r:embed="rId2"/>
          <a:stretch/>
        </p:blipFill>
        <p:spPr>
          <a:xfrm>
            <a:off x="4800600" y="2362320"/>
            <a:ext cx="3286080" cy="2038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609480" y="304812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dge Vi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86,000 = $20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257800" y="510552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m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20,000 = $2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Hummer-SUT-001"/>
          <p:cNvPicPr/>
          <p:nvPr/>
        </p:nvPicPr>
        <p:blipFill>
          <a:blip r:embed="rId3"/>
          <a:srcRect l="10530" t="24562" r="11844" b="10528"/>
          <a:stretch/>
        </p:blipFill>
        <p:spPr>
          <a:xfrm>
            <a:off x="685800" y="4343400"/>
            <a:ext cx="327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puma-Bike-Profile"/>
          <p:cNvPicPr/>
          <p:nvPr/>
        </p:nvPicPr>
        <p:blipFill>
          <a:blip r:embed="rId1"/>
          <a:stretch/>
        </p:blipFill>
        <p:spPr>
          <a:xfrm>
            <a:off x="762120" y="380880"/>
            <a:ext cx="2805120" cy="2030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3733920" y="762120"/>
            <a:ext cx="3276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800 = $6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onomy: $200 = $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bus%20left%20side%20full"/>
          <p:cNvPicPr/>
          <p:nvPr/>
        </p:nvPicPr>
        <p:blipFill>
          <a:blip r:embed="rId2"/>
          <a:srcRect l="0" t="15150" r="0" b="19394"/>
          <a:stretch/>
        </p:blipFill>
        <p:spPr>
          <a:xfrm>
            <a:off x="3962520" y="2514600"/>
            <a:ext cx="4190760" cy="2057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1066680" y="30481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 P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tokyo8"/>
          <p:cNvPicPr/>
          <p:nvPr/>
        </p:nvPicPr>
        <p:blipFill>
          <a:blip r:embed="rId3"/>
          <a:stretch/>
        </p:blipFill>
        <p:spPr>
          <a:xfrm>
            <a:off x="990720" y="4648320"/>
            <a:ext cx="2209680" cy="1460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3352680" y="4876920"/>
            <a:ext cx="3886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or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6,000 - $27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9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taxi-1"/>
          <p:cNvPicPr/>
          <p:nvPr/>
        </p:nvPicPr>
        <p:blipFill>
          <a:blip r:embed="rId1"/>
          <a:stretch/>
        </p:blipFill>
        <p:spPr>
          <a:xfrm>
            <a:off x="304920" y="304920"/>
            <a:ext cx="3276360" cy="2457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4114800" y="457200"/>
            <a:ext cx="4343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x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o 5 times a week: $40 to $24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to 20 times a week: $400 to $8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Just_An_Old_Truck"/>
          <p:cNvPicPr/>
          <p:nvPr/>
        </p:nvPicPr>
        <p:blipFill>
          <a:blip r:embed="rId2"/>
          <a:stretch/>
        </p:blipFill>
        <p:spPr>
          <a:xfrm>
            <a:off x="4114800" y="3048120"/>
            <a:ext cx="3759120" cy="2819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1"/>
          <p:cNvSpPr/>
          <p:nvPr/>
        </p:nvSpPr>
        <p:spPr>
          <a:xfrm>
            <a:off x="609480" y="4191120"/>
            <a:ext cx="3962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c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5,500 = $29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4,500 = $1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ation Extras</a:t>
            </a:r>
            <a:br>
              <a:rPr sz="4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nter on Extras at bott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295280" y="3124080"/>
            <a:ext cx="3962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se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 &amp; Upkeep = $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horse-sale"/>
          <p:cNvPicPr/>
          <p:nvPr/>
        </p:nvPicPr>
        <p:blipFill>
          <a:blip r:embed="rId1"/>
          <a:stretch/>
        </p:blipFill>
        <p:spPr>
          <a:xfrm>
            <a:off x="5029200" y="2438280"/>
            <a:ext cx="2687760" cy="218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4wheeler"/>
          <p:cNvPicPr/>
          <p:nvPr/>
        </p:nvPicPr>
        <p:blipFill>
          <a:blip r:embed="rId2"/>
          <a:stretch/>
        </p:blipFill>
        <p:spPr>
          <a:xfrm>
            <a:off x="838080" y="838080"/>
            <a:ext cx="2971800" cy="2343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4038480" y="14479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hee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8,000 = $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http://tonymccollum.com/wp-content/uploads/2009/07/seadoo-rxp400.jpg"/>
          <p:cNvPicPr/>
          <p:nvPr/>
        </p:nvPicPr>
        <p:blipFill>
          <a:blip r:embed="rId3"/>
          <a:srcRect l="0" t="13327" r="0" b="10000"/>
          <a:stretch/>
        </p:blipFill>
        <p:spPr>
          <a:xfrm>
            <a:off x="914400" y="4343400"/>
            <a:ext cx="3710160" cy="2133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4724280" y="5105520"/>
            <a:ext cx="3962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-d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New: $25,000  $6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1,000 $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"/>
          <p:cNvSpPr/>
          <p:nvPr/>
        </p:nvSpPr>
        <p:spPr>
          <a:xfrm>
            <a:off x="457200" y="281952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edbo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20,000 = $3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ski%20boat%203"/>
          <p:cNvPicPr/>
          <p:nvPr/>
        </p:nvPicPr>
        <p:blipFill>
          <a:blip r:embed="rId1"/>
          <a:srcRect l="8752" t="33339" r="16252" b="35000"/>
          <a:stretch/>
        </p:blipFill>
        <p:spPr>
          <a:xfrm>
            <a:off x="3809880" y="2514600"/>
            <a:ext cx="4572000" cy="1447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4952880" y="4800600"/>
            <a:ext cx="2743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nowmob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10,000 = $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2,800 = $12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1" descr="snowmobile-polaris"/>
          <p:cNvPicPr/>
          <p:nvPr/>
        </p:nvPicPr>
        <p:blipFill>
          <a:blip r:embed="rId2"/>
          <a:stretch/>
        </p:blipFill>
        <p:spPr>
          <a:xfrm>
            <a:off x="533520" y="4191120"/>
            <a:ext cx="3324240" cy="2268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http://www.harley-davidson.com/en_US/Media/images/2011-Motorcycles/landing/large/fat-boy.jpg"/>
          <p:cNvPicPr/>
          <p:nvPr/>
        </p:nvPicPr>
        <p:blipFill>
          <a:blip r:embed="rId3"/>
          <a:srcRect l="28712" t="0" r="0" b="28358"/>
          <a:stretch/>
        </p:blipFill>
        <p:spPr>
          <a:xfrm>
            <a:off x="380880" y="228600"/>
            <a:ext cx="3787920" cy="2209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4952880" y="533520"/>
            <a:ext cx="2743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ley Davids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30,000 = $6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j0215523"/>
          <p:cNvPicPr/>
          <p:nvPr/>
        </p:nvPicPr>
        <p:blipFill>
          <a:blip r:embed="rId1"/>
          <a:stretch/>
        </p:blipFill>
        <p:spPr>
          <a:xfrm>
            <a:off x="5562720" y="1676520"/>
            <a:ext cx="2485800" cy="110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j0215522"/>
          <p:cNvPicPr/>
          <p:nvPr/>
        </p:nvPicPr>
        <p:blipFill>
          <a:blip r:embed="rId2"/>
          <a:stretch/>
        </p:blipFill>
        <p:spPr>
          <a:xfrm>
            <a:off x="5715000" y="3048120"/>
            <a:ext cx="2340000" cy="17794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838080" y="19051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ge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bare necessities like bread, milk, egg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762120" y="3352680"/>
            <a:ext cx="3962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sty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fortable amount, ready to cook at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2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838080" y="487692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urme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ncy foods, high-end, cooked for you and 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35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2" descr="j0233666"/>
          <p:cNvPicPr/>
          <p:nvPr/>
        </p:nvPicPr>
        <p:blipFill>
          <a:blip r:embed="rId3"/>
          <a:stretch/>
        </p:blipFill>
        <p:spPr>
          <a:xfrm>
            <a:off x="5486400" y="5145120"/>
            <a:ext cx="28447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t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828800" y="1371600"/>
            <a:ext cx="3962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u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ics from stores like K-Mart, Wal-Mart, Ross, and the D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838080" y="2895480"/>
            <a:ext cx="3962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sual wear like jeans and t-shirts from mid-level stores like Sears, Mervyn’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0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9880" y="5029200"/>
            <a:ext cx="3962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ion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its, ties, dresses from high-end stores like Dillard’s Nordstroms, etc. Necessary if you have a professional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50.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7" descr="IS110-012"/>
          <p:cNvPicPr/>
          <p:nvPr/>
        </p:nvPicPr>
        <p:blipFill>
          <a:blip r:embed="rId1"/>
          <a:stretch/>
        </p:blipFill>
        <p:spPr>
          <a:xfrm>
            <a:off x="1981080" y="4572000"/>
            <a:ext cx="1346400" cy="2019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0" descr="TY_18"/>
          <p:cNvPicPr/>
          <p:nvPr/>
        </p:nvPicPr>
        <p:blipFill>
          <a:blip r:embed="rId2"/>
          <a:stretch/>
        </p:blipFill>
        <p:spPr>
          <a:xfrm>
            <a:off x="4724280" y="2895480"/>
            <a:ext cx="1508400" cy="2095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http://www.deseretnews.com/photos/midres/1693084.jpg"/>
          <p:cNvPicPr/>
          <p:nvPr/>
        </p:nvPicPr>
        <p:blipFill>
          <a:blip r:embed="rId3"/>
          <a:stretch/>
        </p:blipFill>
        <p:spPr>
          <a:xfrm>
            <a:off x="6019920" y="762120"/>
            <a:ext cx="28191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other"/>
              </a:rPr>
              <a:t>Hou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800600" y="838080"/>
            <a:ext cx="380988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-Bedroom Tra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condition, garden in place, deck, playground, close to major highways. Excellent school in neighborhood. Located in rural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55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4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47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28600" y="3733920"/>
            <a:ext cx="3733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-bedroom Rambl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built on a half-acre lot, gorgeous landscaping. Located 45 minutes from downtown in a rural area, upgraded kitchen, sprinkling system, 2 ½ ba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2,2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6"/>
          <p:cNvSpPr/>
          <p:nvPr/>
        </p:nvSpPr>
        <p:spPr>
          <a:xfrm rot="10618200">
            <a:off x="3595320" y="43542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7"/>
          <p:cNvSpPr/>
          <p:nvPr/>
        </p:nvSpPr>
        <p:spPr>
          <a:xfrm>
            <a:off x="4038480" y="8380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Primary Photo [click for next photo]"/>
          <p:cNvPicPr/>
          <p:nvPr/>
        </p:nvPicPr>
        <p:blipFill>
          <a:blip r:embed="rId1"/>
          <a:stretch/>
        </p:blipFill>
        <p:spPr>
          <a:xfrm>
            <a:off x="4419720" y="35053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Primary Photo [click for next photo]"/>
          <p:cNvPicPr/>
          <p:nvPr/>
        </p:nvPicPr>
        <p:blipFill>
          <a:blip r:embed="rId3"/>
          <a:stretch/>
        </p:blipFill>
        <p:spPr>
          <a:xfrm>
            <a:off x="152280" y="6094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209680" y="137160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 F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5 – 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wikipedia-on-ipod"/>
          <p:cNvPicPr/>
          <p:nvPr/>
        </p:nvPicPr>
        <p:blipFill>
          <a:blip r:embed="rId1"/>
          <a:srcRect l="7999" t="0" r="9335" b="0"/>
          <a:stretch/>
        </p:blipFill>
        <p:spPr>
          <a:xfrm>
            <a:off x="152280" y="3429000"/>
            <a:ext cx="2362320" cy="2857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2514600" y="3886200"/>
            <a:ext cx="1676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0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SportsEvent"/>
          <p:cNvPicPr/>
          <p:nvPr/>
        </p:nvPicPr>
        <p:blipFill>
          <a:blip r:embed="rId2"/>
          <a:stretch/>
        </p:blipFill>
        <p:spPr>
          <a:xfrm>
            <a:off x="4419720" y="1371600"/>
            <a:ext cx="198576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6553080" y="1523880"/>
            <a:ext cx="2286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essional Sports Season Ti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50.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4" descr="united_bowling_2"/>
          <p:cNvPicPr/>
          <p:nvPr/>
        </p:nvPicPr>
        <p:blipFill>
          <a:blip r:embed="rId3"/>
          <a:stretch/>
        </p:blipFill>
        <p:spPr>
          <a:xfrm>
            <a:off x="5486400" y="4267080"/>
            <a:ext cx="2685960" cy="1870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5"/>
          <p:cNvSpPr/>
          <p:nvPr/>
        </p:nvSpPr>
        <p:spPr>
          <a:xfrm>
            <a:off x="3886200" y="51055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w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http://thecollegeskinny.files.wordpress.com/2008/03/966630_543525631.jpg"/>
          <p:cNvPicPr/>
          <p:nvPr/>
        </p:nvPicPr>
        <p:blipFill>
          <a:blip r:embed="rId4"/>
          <a:stretch/>
        </p:blipFill>
        <p:spPr>
          <a:xfrm>
            <a:off x="228600" y="1447920"/>
            <a:ext cx="1986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666880" y="1523880"/>
            <a:ext cx="327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h/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: $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: $1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: $1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276720" y="4724280"/>
            <a:ext cx="327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DISH_500_ANTENNA"/>
          <p:cNvPicPr/>
          <p:nvPr/>
        </p:nvPicPr>
        <p:blipFill>
          <a:blip r:embed="rId1"/>
          <a:srcRect l="0" t="0" r="0" b="7305"/>
          <a:stretch/>
        </p:blipFill>
        <p:spPr>
          <a:xfrm>
            <a:off x="380880" y="1066680"/>
            <a:ext cx="21942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600x400_gallery_SC_Movie_Theater_1"/>
          <p:cNvPicPr/>
          <p:nvPr/>
        </p:nvPicPr>
        <p:blipFill>
          <a:blip r:embed="rId2"/>
          <a:stretch/>
        </p:blipFill>
        <p:spPr>
          <a:xfrm>
            <a:off x="304920" y="4267080"/>
            <a:ext cx="2933640" cy="1955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Moorings-Restaurant-Kerry"/>
          <p:cNvPicPr/>
          <p:nvPr/>
        </p:nvPicPr>
        <p:blipFill>
          <a:blip r:embed="rId3"/>
          <a:stretch/>
        </p:blipFill>
        <p:spPr>
          <a:xfrm>
            <a:off x="5943600" y="1219320"/>
            <a:ext cx="2919240" cy="19461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3"/>
          <p:cNvSpPr/>
          <p:nvPr/>
        </p:nvSpPr>
        <p:spPr>
          <a:xfrm>
            <a:off x="5867280" y="3276720"/>
            <a:ext cx="327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ing Out to Eat - Restau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0.00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5" descr="ski_praz_sur_arly"/>
          <p:cNvPicPr/>
          <p:nvPr/>
        </p:nvPicPr>
        <p:blipFill>
          <a:blip r:embed="rId4"/>
          <a:stretch/>
        </p:blipFill>
        <p:spPr>
          <a:xfrm>
            <a:off x="7086600" y="4038480"/>
            <a:ext cx="1652760" cy="24814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6"/>
          <p:cNvSpPr/>
          <p:nvPr/>
        </p:nvSpPr>
        <p:spPr>
          <a:xfrm>
            <a:off x="4572000" y="5486400"/>
            <a:ext cx="3276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/Snowboa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ason Pass: $11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: $4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657600" y="1219320"/>
            <a:ext cx="3276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,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thly: $12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$30.00 month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Core2DuoPCBanner"/>
          <p:cNvPicPr/>
          <p:nvPr/>
        </p:nvPicPr>
        <p:blipFill>
          <a:blip r:embed="rId1"/>
          <a:srcRect l="30404" t="0" r="0" b="0"/>
          <a:stretch/>
        </p:blipFill>
        <p:spPr>
          <a:xfrm>
            <a:off x="228600" y="1219320"/>
            <a:ext cx="3314880" cy="2571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xbox-360-vs-sony-ps3-nintendo-revolution"/>
          <p:cNvPicPr/>
          <p:nvPr/>
        </p:nvPicPr>
        <p:blipFill>
          <a:blip r:embed="rId2"/>
          <a:stretch/>
        </p:blipFill>
        <p:spPr>
          <a:xfrm>
            <a:off x="533520" y="3962520"/>
            <a:ext cx="2438280" cy="2357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3048120" y="4343400"/>
            <a:ext cx="32763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Box 3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5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Games &amp; Controll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500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75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pets"/>
          <p:cNvPicPr/>
          <p:nvPr/>
        </p:nvPicPr>
        <p:blipFill>
          <a:blip r:embed="rId3"/>
          <a:stretch/>
        </p:blipFill>
        <p:spPr>
          <a:xfrm>
            <a:off x="4343400" y="2743200"/>
            <a:ext cx="2685960" cy="1973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2"/>
          <p:cNvSpPr/>
          <p:nvPr/>
        </p:nvSpPr>
        <p:spPr>
          <a:xfrm>
            <a:off x="7010280" y="2971800"/>
            <a:ext cx="19051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0.00 month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0 for each additional p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tainment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Motor_home_MG_1022"/>
          <p:cNvPicPr/>
          <p:nvPr/>
        </p:nvPicPr>
        <p:blipFill>
          <a:blip r:embed="rId1"/>
          <a:stretch/>
        </p:blipFill>
        <p:spPr>
          <a:xfrm>
            <a:off x="685800" y="1295280"/>
            <a:ext cx="2362320" cy="1433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200400" y="1447920"/>
            <a:ext cx="3809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o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: $55,000 - $600/month 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: $18,000 - $175/month 1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pagani-sound-system"/>
          <p:cNvPicPr/>
          <p:nvPr/>
        </p:nvPicPr>
        <p:blipFill>
          <a:blip r:embed="rId2"/>
          <a:stretch/>
        </p:blipFill>
        <p:spPr>
          <a:xfrm>
            <a:off x="609480" y="2895480"/>
            <a:ext cx="2438640" cy="19130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3200400" y="3048120"/>
            <a:ext cx="3809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nd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ent: $1,800 = $80/month/2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unt: $900 = $45/month/2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3276720" y="4952880"/>
            <a:ext cx="4114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Phon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000 minutes - $6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mited, High-end = $1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http://gadgetophilia.com/wp-content/uploads/2009/06/n97iphone.jpg"/>
          <p:cNvPicPr/>
          <p:nvPr/>
        </p:nvPicPr>
        <p:blipFill>
          <a:blip r:embed="rId3"/>
          <a:stretch/>
        </p:blipFill>
        <p:spPr>
          <a:xfrm>
            <a:off x="6553080" y="4419720"/>
            <a:ext cx="221004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0"/>
          <p:cNvSpPr/>
          <p:nvPr/>
        </p:nvSpPr>
        <p:spPr>
          <a:xfrm>
            <a:off x="4800600" y="533520"/>
            <a:ext cx="380988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ixer-U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“fixer-upper” in a run-down neighborhood with higher levels of crime and on a busy road. Very close to city. 2 bedrooms, 1 bath, hardwood floors, air-conditio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5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7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9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57200" y="3429000"/>
            <a:ext cx="3581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tie Patoo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e but small three-bedroom house only 20 minutes to city limits in desirable area, close to the University. Built in 1925, needs repairs. Highly valuable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: $1,1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tgage: $1,5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3" descr="Click for details"/>
          <p:cNvPicPr/>
          <p:nvPr/>
        </p:nvPicPr>
        <p:blipFill>
          <a:blip r:embed="rId1"/>
          <a:stretch/>
        </p:blipFill>
        <p:spPr>
          <a:xfrm>
            <a:off x="449568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Right Arrow 5"/>
          <p:cNvSpPr/>
          <p:nvPr/>
        </p:nvSpPr>
        <p:spPr>
          <a:xfrm>
            <a:off x="4343400" y="13716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6"/>
          <p:cNvSpPr/>
          <p:nvPr/>
        </p:nvSpPr>
        <p:spPr>
          <a:xfrm rot="10618200">
            <a:off x="3809520" y="3809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Primary Photo [click for next photo]"/>
          <p:cNvPicPr/>
          <p:nvPr/>
        </p:nvPicPr>
        <p:blipFill>
          <a:blip r:embed="rId2"/>
          <a:stretch/>
        </p:blipFill>
        <p:spPr>
          <a:xfrm>
            <a:off x="304920" y="304920"/>
            <a:ext cx="3759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http://www.ksl.com/emedia/slc/2472/247249/24724973.jpg?filter=ksl/gallery1"/>
          <p:cNvPicPr/>
          <p:nvPr/>
        </p:nvPicPr>
        <p:blipFill>
          <a:blip r:embed="rId1"/>
          <a:srcRect l="0" t="0" r="5659" b="0"/>
          <a:stretch/>
        </p:blipFill>
        <p:spPr>
          <a:xfrm>
            <a:off x="152280" y="304920"/>
            <a:ext cx="3810240" cy="2990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876920" y="380880"/>
            <a:ext cx="3886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ment A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studio apartment (one-room) in semi-restored older home. Hot plate and fridge, shared bath, laundry in basement. 20 minutes to downtow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$52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52280" y="4038480"/>
            <a:ext cx="388620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fortable Mid-Size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size house in good area, in a quiet area. Needs some work, three bedroom. On road with higher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19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,0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5"/>
          <p:cNvSpPr/>
          <p:nvPr/>
        </p:nvSpPr>
        <p:spPr>
          <a:xfrm>
            <a:off x="4114800" y="4572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6"/>
          <p:cNvSpPr/>
          <p:nvPr/>
        </p:nvSpPr>
        <p:spPr>
          <a:xfrm rot="10800000">
            <a:off x="4114800" y="3809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Primary Photo [click for next photo]"/>
          <p:cNvPicPr/>
          <p:nvPr/>
        </p:nvPicPr>
        <p:blipFill>
          <a:blip r:embed="rId2"/>
          <a:stretch/>
        </p:blipFill>
        <p:spPr>
          <a:xfrm>
            <a:off x="480060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"/>
          <p:cNvSpPr/>
          <p:nvPr/>
        </p:nvSpPr>
        <p:spPr>
          <a:xfrm>
            <a:off x="4800600" y="533520"/>
            <a:ext cx="38098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ylish Executive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stled near the mountains in an exclusive neighborhood, close to ski resorts, and far from the nearest grocery store. 6 bedrooms, 4 bat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62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3,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457200" y="3276720"/>
            <a:ext cx="35812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ma’s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cute, and a little fussy. Located on a busy road in an unpopular area of town. Landscaped, 2 car garage, 4 bedrooms, 2 baths, more than 50 years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: $12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: $55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tgage: $700/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5"/>
          <p:cNvSpPr/>
          <p:nvPr/>
        </p:nvSpPr>
        <p:spPr>
          <a:xfrm>
            <a:off x="4343400" y="13716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6"/>
          <p:cNvSpPr/>
          <p:nvPr/>
        </p:nvSpPr>
        <p:spPr>
          <a:xfrm rot="10618200">
            <a:off x="3809520" y="3809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Primary Photo [click for next photo]"/>
          <p:cNvPicPr/>
          <p:nvPr/>
        </p:nvPicPr>
        <p:blipFill>
          <a:blip r:embed="rId1"/>
          <a:stretch/>
        </p:blipFill>
        <p:spPr>
          <a:xfrm>
            <a:off x="304920" y="2286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Primary Photo [click for next photo]"/>
          <p:cNvPicPr/>
          <p:nvPr/>
        </p:nvPicPr>
        <p:blipFill>
          <a:blip r:embed="rId2"/>
          <a:stretch/>
        </p:blipFill>
        <p:spPr>
          <a:xfrm>
            <a:off x="4419720" y="3352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http://www.ksl.com/emedia/slc/2473/247382/24738229.jpg?filter=ksl/gallery1"/>
          <p:cNvPicPr/>
          <p:nvPr/>
        </p:nvPicPr>
        <p:blipFill>
          <a:blip r:embed="rId1"/>
          <a:srcRect l="0" t="0" r="7889" b="0"/>
          <a:stretch/>
        </p:blipFill>
        <p:spPr>
          <a:xfrm>
            <a:off x="228600" y="380880"/>
            <a:ext cx="3886200" cy="31244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419720" y="380880"/>
            <a:ext cx="38862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tored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ored four-bedroom century home in the heritage district. Original moldings, tow working fireplaces, hardwood floors, modernized kitchen and baths. Close to capital c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6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,7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2,000/mon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33520" y="3962520"/>
            <a:ext cx="38862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artment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-bedroom-plus-den high-rise suite. Washer-dryer, dishwasher, two bathrooms. Skyline view, club room and weight-room facilit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12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2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5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ight Arrow 5"/>
          <p:cNvSpPr/>
          <p:nvPr/>
        </p:nvSpPr>
        <p:spPr>
          <a:xfrm rot="10800000">
            <a:off x="3962520" y="1523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8"/>
          <p:cNvSpPr/>
          <p:nvPr/>
        </p:nvSpPr>
        <p:spPr>
          <a:xfrm>
            <a:off x="4114800" y="51814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http://www.dallasluxuryleasing.com/images/Highrises/Dallas_Luxury_Highrise_Apartments_2.jpg"/>
          <p:cNvPicPr/>
          <p:nvPr/>
        </p:nvPicPr>
        <p:blipFill>
          <a:blip r:embed="rId2"/>
          <a:stretch/>
        </p:blipFill>
        <p:spPr>
          <a:xfrm>
            <a:off x="4648320" y="3733920"/>
            <a:ext cx="4119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4419720" y="380880"/>
            <a:ext cx="38862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-bedroom, two-bath end unit in ten-year old subdivision. Five appliances, mature trees, close to school, excellent condition. Pay HOA fe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9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9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100/mon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A Fees: $50.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280" y="3733920"/>
            <a:ext cx="388620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-bedroom, 2 ½ bath in a renovated midtown duplex. Ten-foot ceilings, no yard, quiet stre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8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9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0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Arrow 5"/>
          <p:cNvSpPr/>
          <p:nvPr/>
        </p:nvSpPr>
        <p:spPr>
          <a:xfrm>
            <a:off x="3962520" y="1523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ight Arrow 6"/>
          <p:cNvSpPr/>
          <p:nvPr/>
        </p:nvSpPr>
        <p:spPr>
          <a:xfrm rot="10996200">
            <a:off x="3733920" y="4952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rimary Photo [click for next photo]"/>
          <p:cNvPicPr/>
          <p:nvPr/>
        </p:nvPicPr>
        <p:blipFill>
          <a:blip r:embed="rId1"/>
          <a:stretch/>
        </p:blipFill>
        <p:spPr>
          <a:xfrm>
            <a:off x="4343400" y="33526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Primary Photo [click for next photo]"/>
          <p:cNvPicPr/>
          <p:nvPr/>
        </p:nvPicPr>
        <p:blipFill>
          <a:blip r:embed="rId2"/>
          <a:srcRect l="0" t="0" r="0" b="12819"/>
          <a:stretch/>
        </p:blipFill>
        <p:spPr>
          <a:xfrm>
            <a:off x="152280" y="609480"/>
            <a:ext cx="373392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4419720" y="380880"/>
            <a:ext cx="38862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scale 4-Bedro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bedroom, 3 bath, in upscale area. Close to good schools, about 20 minutes from metro area. Shopping nearby, but in a nice neighborhood. Not on a busy ro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3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703/mon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2280" y="3733920"/>
            <a:ext cx="38862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 City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bedroom, 2 bath, in less popular part of town. Beautiful home, but a more dangerous neighborhood. On a quiet str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207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1,0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1,25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Arrow 5"/>
          <p:cNvSpPr/>
          <p:nvPr/>
        </p:nvSpPr>
        <p:spPr>
          <a:xfrm>
            <a:off x="3962520" y="152388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6"/>
          <p:cNvSpPr/>
          <p:nvPr/>
        </p:nvSpPr>
        <p:spPr>
          <a:xfrm rot="10996200">
            <a:off x="3733920" y="495252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Primary Photo [click for next photo]"/>
          <p:cNvPicPr/>
          <p:nvPr/>
        </p:nvPicPr>
        <p:blipFill>
          <a:blip r:embed="rId1"/>
          <a:stretch/>
        </p:blipFill>
        <p:spPr>
          <a:xfrm>
            <a:off x="228600" y="533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Primary Photo [click for next photo]"/>
          <p:cNvPicPr/>
          <p:nvPr/>
        </p:nvPicPr>
        <p:blipFill>
          <a:blip r:embed="rId2"/>
          <a:stretch/>
        </p:blipFill>
        <p:spPr>
          <a:xfrm>
            <a:off x="4419720" y="335268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Primary Photo [click for next photo]"/>
          <p:cNvPicPr/>
          <p:nvPr/>
        </p:nvPicPr>
        <p:blipFill>
          <a:blip r:embed="rId1"/>
          <a:srcRect l="0" t="0" r="0" b="18339"/>
          <a:stretch/>
        </p:blipFill>
        <p:spPr>
          <a:xfrm>
            <a:off x="152280" y="4114800"/>
            <a:ext cx="410544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obj162894?view=1126"/>
          <p:cNvPicPr/>
          <p:nvPr/>
        </p:nvPicPr>
        <p:blipFill>
          <a:blip r:embed="rId2"/>
          <a:stretch/>
        </p:blipFill>
        <p:spPr>
          <a:xfrm>
            <a:off x="228600" y="380880"/>
            <a:ext cx="3733920" cy="2489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419720" y="228600"/>
            <a:ext cx="388620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dsize A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bedroom walk-up apartment in midtown. Close to shopping, transit, and thea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: $450/month (live with room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: $850/month (live by yoursel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: $250/month (share room w/ room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80880" y="312408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ing at 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parents/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: $50/week, $2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419720" y="4672080"/>
            <a:ext cx="38862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-Bedroom, 5-bath mansion in private area. Great view, horse property, recent upgrades and remodeling, separate apartment downstai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: $1,099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tgage: $6,300/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ight Arrow 7"/>
          <p:cNvSpPr/>
          <p:nvPr/>
        </p:nvSpPr>
        <p:spPr>
          <a:xfrm>
            <a:off x="3962520" y="685800"/>
            <a:ext cx="45720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8"/>
          <p:cNvSpPr/>
          <p:nvPr/>
        </p:nvSpPr>
        <p:spPr>
          <a:xfrm>
            <a:off x="3886200" y="3048120"/>
            <a:ext cx="45720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9"/>
          <p:cNvSpPr/>
          <p:nvPr/>
        </p:nvSpPr>
        <p:spPr>
          <a:xfrm rot="10800000">
            <a:off x="3962520" y="5105160"/>
            <a:ext cx="457200" cy="533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4572000" y="2438280"/>
            <a:ext cx="3809880" cy="2057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PARENT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US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01:32Z</dcterms:created>
  <dc:creator>MNielson</dc:creator>
  <dc:description/>
  <dc:language>en-US</dc:language>
  <cp:lastModifiedBy>megan.rees</cp:lastModifiedBy>
  <dcterms:modified xsi:type="dcterms:W3CDTF">2010-10-29T16:01:41Z</dcterms:modified>
  <cp:revision>51</cp:revision>
  <dc:subject/>
  <dc:title>TLC</dc:title>
</cp:coreProperties>
</file>