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38.jpeg" ContentType="image/jpeg"/>
  <Override PartName="/ppt/media/image7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5.jpeg" ContentType="image/jpeg"/>
  <Override PartName="/ppt/media/image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23.jpeg" ContentType="image/jpeg"/>
  <Override PartName="/ppt/media/image42.wmf" ContentType="image/x-wmf"/>
  <Override PartName="/ppt/media/image14.jpeg" ContentType="image/jpeg"/>
  <Override PartName="/ppt/media/image2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41.wmf" ContentType="image/x-wmf"/>
  <Override PartName="/ppt/media/image13.jpeg" ContentType="image/jpeg"/>
  <Override PartName="/ppt/media/image40.jpeg" ContentType="image/jpeg"/>
  <Override PartName="/ppt/media/image30.jpeg" ContentType="image/jpeg"/>
  <Override PartName="/ppt/media/image31.png" ContentType="image/png"/>
  <Override PartName="/ppt/media/image32.jpeg" ContentType="image/jpeg"/>
  <Override PartName="/ppt/media/image33.jpeg" ContentType="image/jpeg"/>
  <Override PartName="/ppt/media/image34.jpeg" ContentType="image/jpeg"/>
  <Override PartName="/ppt/media/image9.jpeg" ContentType="image/jpeg"/>
  <Override PartName="/ppt/media/image36.png" ContentType="image/png"/>
  <Override PartName="/ppt/media/image43.wmf" ContentType="image/x-wmf"/>
  <Override PartName="/ppt/media/image5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7051-6C07-408A-A96E-D8DB78F04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969E-F051-4FD8-8A37-6DFEBD58A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09A7-3EA5-4128-873C-738367A9E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CE1F-0806-4159-B147-E5B1ED0B3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706A-5B73-4A6E-AEF6-FF3478888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884F-D8A4-42B8-85DF-0D6A913EB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14B3-78B9-40AF-82D9-E5639BA8B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FCC1-8D0F-466C-9ADA-1ABE9CF7C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17E9-AFDE-4AC4-814E-4CBCF9224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7826-95B6-412C-9CD7-B72CE0557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6863-0886-4204-B080-54858D213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7C72-E740-48B6-A35E-BFF932E9D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B237-B0BB-474B-BF49-756C1F285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DAA3-236D-4C2F-9C9F-01C592ADA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CEA0-AD26-4D88-B14E-AD19233BD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5AF1-40E3-40AA-930B-26CC3A92D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C366-14CB-49F3-BF52-8DD90F971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4E77-098B-4060-A019-95E00104E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5338-53D4-4492-95F2-DB6D1DA53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DC4A-67FD-4A6C-ABCF-A81A3A177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6F99-D302-49E9-8B05-B2AD6C28D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18B7-4972-45F8-B6E6-7810889E1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ED8A-EFED-4611-9583-180326DEA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2133-4386-484A-ABEA-DC8587706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33EF-7355-459B-BDDE-4275F8CD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D986-ABE7-4CA4-9339-77C3ED1F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32B4-E417-43BE-A43C-C1E67C380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1063-6243-4F7D-B13C-9E314BD8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8A05-CC1E-4838-9504-757D85FE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1CBB-E202-4B85-AEC3-17CE5CEA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0B98-52BC-444C-93C6-4B96FD9A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5FBE-B00B-42DD-A4B5-28A13FB5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CFD1-14BE-44DA-AD07-F4F47DDE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E15A-7B42-46BE-8E48-0EF92A8E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0EFA-C145-48D5-8DE0-4F7ACB42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10FE-B42C-4282-9E6F-08198B7E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0E81-ACC0-4D38-9AF8-DF98BCB2D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PT Script (Unreg.) Lightning"/>
              </a:rPr>
              <a:t>TL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PT Script (Unreg.) Lightning"/>
              </a:rPr>
              <a:t>WISH LIS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5" descr="beatle"/>
          <p:cNvPicPr/>
          <p:nvPr/>
        </p:nvPicPr>
        <p:blipFill>
          <a:blip r:embed="rId1"/>
          <a:srcRect l="0" t="24173" r="0" b="22414"/>
          <a:stretch/>
        </p:blipFill>
        <p:spPr>
          <a:xfrm>
            <a:off x="457200" y="1143000"/>
            <a:ext cx="3809880" cy="2057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0" descr="31909"/>
          <p:cNvPicPr/>
          <p:nvPr/>
        </p:nvPicPr>
        <p:blipFill>
          <a:blip r:embed="rId2"/>
          <a:srcRect l="0" t="16473" r="0" b="14926"/>
          <a:stretch/>
        </p:blipFill>
        <p:spPr>
          <a:xfrm>
            <a:off x="4800600" y="2438280"/>
            <a:ext cx="3657600" cy="2186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2"/>
          <p:cNvSpPr/>
          <p:nvPr/>
        </p:nvSpPr>
        <p:spPr>
          <a:xfrm>
            <a:off x="4495680" y="1143000"/>
            <a:ext cx="3886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lkswagen Bea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24,000 = $4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13,000 = $2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685800" y="3276720"/>
            <a:ext cx="3886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d Explo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32,000 = $6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20,000 = $4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4876920" y="5105520"/>
            <a:ext cx="3886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undai Ac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10,000 = $18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5,000 = $1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" descr="b33059-hyundai-accent"/>
          <p:cNvPicPr/>
          <p:nvPr/>
        </p:nvPicPr>
        <p:blipFill>
          <a:blip r:embed="rId3"/>
          <a:stretch/>
        </p:blipFill>
        <p:spPr>
          <a:xfrm>
            <a:off x="380880" y="4343400"/>
            <a:ext cx="34401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mini_0005"/>
          <p:cNvPicPr/>
          <p:nvPr/>
        </p:nvPicPr>
        <p:blipFill>
          <a:blip r:embed="rId1"/>
          <a:srcRect l="9836" t="17874" r="9836" b="13100"/>
          <a:stretch/>
        </p:blipFill>
        <p:spPr>
          <a:xfrm>
            <a:off x="304920" y="304920"/>
            <a:ext cx="3733560" cy="2133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"/>
          <p:cNvSpPr/>
          <p:nvPr/>
        </p:nvSpPr>
        <p:spPr>
          <a:xfrm>
            <a:off x="4495680" y="685800"/>
            <a:ext cx="3886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 Convert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21,000 = $4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11,000 = $2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304920" y="2819520"/>
            <a:ext cx="3886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vrolet Silver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28,000 = $5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18,000 = $3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3" descr="Spallone2Big"/>
          <p:cNvPicPr/>
          <p:nvPr/>
        </p:nvPicPr>
        <p:blipFill>
          <a:blip r:embed="rId2"/>
          <a:stretch/>
        </p:blipFill>
        <p:spPr>
          <a:xfrm>
            <a:off x="4495680" y="1981080"/>
            <a:ext cx="3781440" cy="2557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Porsche%20Boxster%20S%202005%20-%201024x768"/>
          <p:cNvPicPr/>
          <p:nvPr/>
        </p:nvPicPr>
        <p:blipFill>
          <a:blip r:embed="rId3"/>
          <a:stretch/>
        </p:blipFill>
        <p:spPr>
          <a:xfrm>
            <a:off x="457200" y="4038480"/>
            <a:ext cx="3367080" cy="25243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6"/>
          <p:cNvSpPr/>
          <p:nvPr/>
        </p:nvSpPr>
        <p:spPr>
          <a:xfrm>
            <a:off x="4114800" y="4876920"/>
            <a:ext cx="3886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sche Box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50,000 = $9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18,000 = $6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4648320" y="838080"/>
            <a:ext cx="3886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ysler Town and Coun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27,000 = $5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19,000 = $3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5fw"/>
          <p:cNvPicPr/>
          <p:nvPr/>
        </p:nvPicPr>
        <p:blipFill>
          <a:blip r:embed="rId1"/>
          <a:stretch/>
        </p:blipFill>
        <p:spPr>
          <a:xfrm>
            <a:off x="609480" y="304920"/>
            <a:ext cx="3505320" cy="2184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685800" y="3200400"/>
            <a:ext cx="3886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-year-old Volvo Tur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7,000 = $1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326"/>
          <p:cNvPicPr/>
          <p:nvPr/>
        </p:nvPicPr>
        <p:blipFill>
          <a:blip r:embed="rId2"/>
          <a:srcRect l="0" t="11886" r="0" b="20797"/>
          <a:stretch/>
        </p:blipFill>
        <p:spPr>
          <a:xfrm>
            <a:off x="4876920" y="2819520"/>
            <a:ext cx="3552840" cy="17953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0"/>
          <p:cNvSpPr/>
          <p:nvPr/>
        </p:nvSpPr>
        <p:spPr>
          <a:xfrm>
            <a:off x="4724280" y="5257800"/>
            <a:ext cx="3886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ldsmobile Intri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4,500 = $1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2" descr="2001_Oldsmobile_Intrigue_P2888"/>
          <p:cNvPicPr/>
          <p:nvPr/>
        </p:nvPicPr>
        <p:blipFill>
          <a:blip r:embed="rId3"/>
          <a:srcRect l="0" t="20369" r="0" b="20369"/>
          <a:stretch/>
        </p:blipFill>
        <p:spPr>
          <a:xfrm>
            <a:off x="762120" y="4876920"/>
            <a:ext cx="3085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fury"/>
          <p:cNvPicPr/>
          <p:nvPr/>
        </p:nvPicPr>
        <p:blipFill>
          <a:blip r:embed="rId1"/>
          <a:srcRect l="13975" t="27864" r="22984" b="27864"/>
          <a:stretch/>
        </p:blipFill>
        <p:spPr>
          <a:xfrm>
            <a:off x="304920" y="152280"/>
            <a:ext cx="3200400" cy="2286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114800" y="457200"/>
            <a:ext cx="3886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ece of Crap 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1,200 = $1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used: $700 = $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CC06_ZBDS27_2DA_PRN_APA_XXX_VBX"/>
          <p:cNvPicPr/>
          <p:nvPr/>
        </p:nvPicPr>
        <p:blipFill>
          <a:blip r:embed="rId2"/>
          <a:stretch/>
        </p:blipFill>
        <p:spPr>
          <a:xfrm>
            <a:off x="4800600" y="2362320"/>
            <a:ext cx="3286080" cy="2038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609480" y="3048120"/>
            <a:ext cx="3886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dge Vi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86,000 = $20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7800" y="5105520"/>
            <a:ext cx="3886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um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120,000 = $25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2" descr="Hummer-SUT-001"/>
          <p:cNvPicPr/>
          <p:nvPr/>
        </p:nvPicPr>
        <p:blipFill>
          <a:blip r:embed="rId3"/>
          <a:srcRect l="10530" t="24562" r="11844" b="10528"/>
          <a:stretch/>
        </p:blipFill>
        <p:spPr>
          <a:xfrm>
            <a:off x="685800" y="4343400"/>
            <a:ext cx="32767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puma-Bike-Profile"/>
          <p:cNvPicPr/>
          <p:nvPr/>
        </p:nvPicPr>
        <p:blipFill>
          <a:blip r:embed="rId1"/>
          <a:stretch/>
        </p:blipFill>
        <p:spPr>
          <a:xfrm>
            <a:off x="762120" y="380880"/>
            <a:ext cx="2805120" cy="20304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3733920" y="762120"/>
            <a:ext cx="3276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800 = $65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conomy: $200 = $2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bus%20left%20side%20full"/>
          <p:cNvPicPr/>
          <p:nvPr/>
        </p:nvPicPr>
        <p:blipFill>
          <a:blip r:embed="rId2"/>
          <a:srcRect l="0" t="15150" r="0" b="19394"/>
          <a:stretch/>
        </p:blipFill>
        <p:spPr>
          <a:xfrm>
            <a:off x="3962520" y="2514600"/>
            <a:ext cx="4190760" cy="20574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1066680" y="3048120"/>
            <a:ext cx="3276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 P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tokyo8"/>
          <p:cNvPicPr/>
          <p:nvPr/>
        </p:nvPicPr>
        <p:blipFill>
          <a:blip r:embed="rId3"/>
          <a:stretch/>
        </p:blipFill>
        <p:spPr>
          <a:xfrm>
            <a:off x="990720" y="4648320"/>
            <a:ext cx="2209680" cy="14605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3352680" y="4876920"/>
            <a:ext cx="3886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tor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6,000 - $275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95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taxi-1"/>
          <p:cNvPicPr/>
          <p:nvPr/>
        </p:nvPicPr>
        <p:blipFill>
          <a:blip r:embed="rId1"/>
          <a:stretch/>
        </p:blipFill>
        <p:spPr>
          <a:xfrm>
            <a:off x="304920" y="304920"/>
            <a:ext cx="3276360" cy="24573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4114800" y="457200"/>
            <a:ext cx="43434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x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o 5 times a week: $40 to $24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to 20 times a week: $400 to $8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6" descr="Just_An_Old_Truck"/>
          <p:cNvPicPr/>
          <p:nvPr/>
        </p:nvPicPr>
        <p:blipFill>
          <a:blip r:embed="rId2"/>
          <a:stretch/>
        </p:blipFill>
        <p:spPr>
          <a:xfrm>
            <a:off x="4114800" y="3048120"/>
            <a:ext cx="3759120" cy="2819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1"/>
          <p:cNvSpPr/>
          <p:nvPr/>
        </p:nvSpPr>
        <p:spPr>
          <a:xfrm>
            <a:off x="609480" y="4191120"/>
            <a:ext cx="3962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c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15,500 = $295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4,500 = $1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ation Extra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nter on Extras at bott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1295280" y="3124080"/>
            <a:ext cx="3962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rse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chase &amp; Upkeep = $3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2" descr="horse-sale"/>
          <p:cNvPicPr/>
          <p:nvPr/>
        </p:nvPicPr>
        <p:blipFill>
          <a:blip r:embed="rId1"/>
          <a:stretch/>
        </p:blipFill>
        <p:spPr>
          <a:xfrm>
            <a:off x="5029200" y="2438280"/>
            <a:ext cx="2687760" cy="2186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4wheeler"/>
          <p:cNvPicPr/>
          <p:nvPr/>
        </p:nvPicPr>
        <p:blipFill>
          <a:blip r:embed="rId2"/>
          <a:stretch/>
        </p:blipFill>
        <p:spPr>
          <a:xfrm>
            <a:off x="838080" y="838080"/>
            <a:ext cx="2971800" cy="23432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0"/>
          <p:cNvSpPr/>
          <p:nvPr/>
        </p:nvSpPr>
        <p:spPr>
          <a:xfrm>
            <a:off x="4038480" y="1447920"/>
            <a:ext cx="3276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-Whee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8,000 = $2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0" descr="http://tonymccollum.com/wp-content/uploads/2009/07/seadoo-rxp400.jpg"/>
          <p:cNvPicPr/>
          <p:nvPr/>
        </p:nvPicPr>
        <p:blipFill>
          <a:blip r:embed="rId3"/>
          <a:srcRect l="0" t="13327" r="0" b="10000"/>
          <a:stretch/>
        </p:blipFill>
        <p:spPr>
          <a:xfrm>
            <a:off x="914400" y="4343400"/>
            <a:ext cx="3710160" cy="21337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4724280" y="5105520"/>
            <a:ext cx="3962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-d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nd New: $25,000  $6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11,000 $2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6"/>
          <p:cNvSpPr/>
          <p:nvPr/>
        </p:nvSpPr>
        <p:spPr>
          <a:xfrm>
            <a:off x="457200" y="2819520"/>
            <a:ext cx="2743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edbo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20,000 = $3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ski%20boat%203"/>
          <p:cNvPicPr/>
          <p:nvPr/>
        </p:nvPicPr>
        <p:blipFill>
          <a:blip r:embed="rId1"/>
          <a:srcRect l="8752" t="33339" r="16252" b="35000"/>
          <a:stretch/>
        </p:blipFill>
        <p:spPr>
          <a:xfrm>
            <a:off x="3809880" y="2514600"/>
            <a:ext cx="4572000" cy="1447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9"/>
          <p:cNvSpPr/>
          <p:nvPr/>
        </p:nvSpPr>
        <p:spPr>
          <a:xfrm>
            <a:off x="4952880" y="4800600"/>
            <a:ext cx="2743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nowmob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10,000 = $3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2,800 = $125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1" descr="snowmobile-polaris"/>
          <p:cNvPicPr/>
          <p:nvPr/>
        </p:nvPicPr>
        <p:blipFill>
          <a:blip r:embed="rId2"/>
          <a:stretch/>
        </p:blipFill>
        <p:spPr>
          <a:xfrm>
            <a:off x="533520" y="4191120"/>
            <a:ext cx="3324240" cy="2268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http://www.harley-davidson.com/en_US/Media/images/2011-Motorcycles/landing/large/fat-boy.jpg"/>
          <p:cNvPicPr/>
          <p:nvPr/>
        </p:nvPicPr>
        <p:blipFill>
          <a:blip r:embed="rId3"/>
          <a:srcRect l="28712" t="0" r="0" b="28358"/>
          <a:stretch/>
        </p:blipFill>
        <p:spPr>
          <a:xfrm>
            <a:off x="380880" y="228600"/>
            <a:ext cx="3787920" cy="22096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4952880" y="533520"/>
            <a:ext cx="2743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ley Davids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30,000 = $6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j0215523"/>
          <p:cNvPicPr/>
          <p:nvPr/>
        </p:nvPicPr>
        <p:blipFill>
          <a:blip r:embed="rId1"/>
          <a:stretch/>
        </p:blipFill>
        <p:spPr>
          <a:xfrm>
            <a:off x="5562720" y="1676520"/>
            <a:ext cx="2485800" cy="1103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j0215522"/>
          <p:cNvPicPr/>
          <p:nvPr/>
        </p:nvPicPr>
        <p:blipFill>
          <a:blip r:embed="rId2"/>
          <a:stretch/>
        </p:blipFill>
        <p:spPr>
          <a:xfrm>
            <a:off x="5715000" y="3048120"/>
            <a:ext cx="2340000" cy="17794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838080" y="1905120"/>
            <a:ext cx="3962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dge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bare necessities like bread, milk, egg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: $150.00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762120" y="3352680"/>
            <a:ext cx="3962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styl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fortable amount, ready to cook at h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: $250.00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838080" y="4876920"/>
            <a:ext cx="3962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urme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ncy foods, high-end, cooked for you and 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: $350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2" descr="j0233666"/>
          <p:cNvPicPr/>
          <p:nvPr/>
        </p:nvPicPr>
        <p:blipFill>
          <a:blip r:embed="rId3"/>
          <a:stretch/>
        </p:blipFill>
        <p:spPr>
          <a:xfrm>
            <a:off x="5486400" y="5145120"/>
            <a:ext cx="284472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th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828800" y="1371600"/>
            <a:ext cx="3962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un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ics from stores like K-Mart, Wal-Mart, Ross, and the D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: $50.00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838080" y="2895480"/>
            <a:ext cx="3962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u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sual wear like jeans and t-shirts from mid-level stores like Sears, Mervyn’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: $100.00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809880" y="5029200"/>
            <a:ext cx="3962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ession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its, ties, dresses from high-end stores like Dillard’s Nordstroms, etc. Necessary if you have a professional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: $150.00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7" descr="IS110-012"/>
          <p:cNvPicPr/>
          <p:nvPr/>
        </p:nvPicPr>
        <p:blipFill>
          <a:blip r:embed="rId1"/>
          <a:stretch/>
        </p:blipFill>
        <p:spPr>
          <a:xfrm>
            <a:off x="1981080" y="4572000"/>
            <a:ext cx="1346400" cy="2019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0" descr="TY_18"/>
          <p:cNvPicPr/>
          <p:nvPr/>
        </p:nvPicPr>
        <p:blipFill>
          <a:blip r:embed="rId2"/>
          <a:stretch/>
        </p:blipFill>
        <p:spPr>
          <a:xfrm>
            <a:off x="4724280" y="2895480"/>
            <a:ext cx="1508400" cy="2095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http://www.deseretnews.com/photos/midres/1693084.jpg"/>
          <p:cNvPicPr/>
          <p:nvPr/>
        </p:nvPicPr>
        <p:blipFill>
          <a:blip r:embed="rId3"/>
          <a:stretch/>
        </p:blipFill>
        <p:spPr>
          <a:xfrm>
            <a:off x="6019920" y="762120"/>
            <a:ext cx="281916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other"/>
              </a:rPr>
              <a:t>Hou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4800600" y="838080"/>
            <a:ext cx="380988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-Bedroom Trai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 condition, garden in place, deck, playground, close to major highways. Excellent school in neighborhood. Located in rural ar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55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: $4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47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228600" y="3733920"/>
            <a:ext cx="37339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-bedroom Rambl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built on a half-acre lot, gorgeous landscaping. Located 45 minutes from downtown in a rural area, upgraded kitchen, sprinkling system, 2 ½ ba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2,2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ight Arrow 6"/>
          <p:cNvSpPr/>
          <p:nvPr/>
        </p:nvSpPr>
        <p:spPr>
          <a:xfrm rot="10618200">
            <a:off x="3595320" y="435420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ight Arrow 7"/>
          <p:cNvSpPr/>
          <p:nvPr/>
        </p:nvSpPr>
        <p:spPr>
          <a:xfrm>
            <a:off x="4038480" y="83808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Primary Photo [click for next photo]"/>
          <p:cNvPicPr/>
          <p:nvPr/>
        </p:nvPicPr>
        <p:blipFill>
          <a:blip r:embed="rId1"/>
          <a:stretch/>
        </p:blipFill>
        <p:spPr>
          <a:xfrm>
            <a:off x="4419720" y="350532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Primary Photo [click for next photo]"/>
          <p:cNvPicPr/>
          <p:nvPr/>
        </p:nvPicPr>
        <p:blipFill>
          <a:blip r:embed="rId3"/>
          <a:stretch/>
        </p:blipFill>
        <p:spPr>
          <a:xfrm>
            <a:off x="152280" y="6094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tainment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209680" y="137160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 F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5 – 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wikipedia-on-ipod"/>
          <p:cNvPicPr/>
          <p:nvPr/>
        </p:nvPicPr>
        <p:blipFill>
          <a:blip r:embed="rId1"/>
          <a:srcRect l="7999" t="0" r="9335" b="0"/>
          <a:stretch/>
        </p:blipFill>
        <p:spPr>
          <a:xfrm>
            <a:off x="152280" y="3429000"/>
            <a:ext cx="2362320" cy="28576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9"/>
          <p:cNvSpPr/>
          <p:nvPr/>
        </p:nvSpPr>
        <p:spPr>
          <a:xfrm>
            <a:off x="2514600" y="3886200"/>
            <a:ext cx="1676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200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SportsEvent"/>
          <p:cNvPicPr/>
          <p:nvPr/>
        </p:nvPicPr>
        <p:blipFill>
          <a:blip r:embed="rId2"/>
          <a:stretch/>
        </p:blipFill>
        <p:spPr>
          <a:xfrm>
            <a:off x="4419720" y="1371600"/>
            <a:ext cx="1985760" cy="25146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2"/>
          <p:cNvSpPr/>
          <p:nvPr/>
        </p:nvSpPr>
        <p:spPr>
          <a:xfrm>
            <a:off x="6553080" y="1523880"/>
            <a:ext cx="2286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essional Sports Season Tic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50.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4" descr="united_bowling_2"/>
          <p:cNvPicPr/>
          <p:nvPr/>
        </p:nvPicPr>
        <p:blipFill>
          <a:blip r:embed="rId3"/>
          <a:stretch/>
        </p:blipFill>
        <p:spPr>
          <a:xfrm>
            <a:off x="5486400" y="4267080"/>
            <a:ext cx="2685960" cy="18702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5"/>
          <p:cNvSpPr/>
          <p:nvPr/>
        </p:nvSpPr>
        <p:spPr>
          <a:xfrm>
            <a:off x="3886200" y="5105520"/>
            <a:ext cx="3276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w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10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2" descr="http://thecollegeskinny.files.wordpress.com/2008/03/966630_543525631.jpg"/>
          <p:cNvPicPr/>
          <p:nvPr/>
        </p:nvPicPr>
        <p:blipFill>
          <a:blip r:embed="rId4"/>
          <a:stretch/>
        </p:blipFill>
        <p:spPr>
          <a:xfrm>
            <a:off x="228600" y="1447920"/>
            <a:ext cx="1986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tainment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2666880" y="1523880"/>
            <a:ext cx="3276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h/C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c: $2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ter: $1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: $1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276720" y="4724280"/>
            <a:ext cx="3276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10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DISH_500_ANTENNA"/>
          <p:cNvPicPr/>
          <p:nvPr/>
        </p:nvPicPr>
        <p:blipFill>
          <a:blip r:embed="rId1"/>
          <a:srcRect l="0" t="0" r="0" b="7305"/>
          <a:stretch/>
        </p:blipFill>
        <p:spPr>
          <a:xfrm>
            <a:off x="380880" y="1066680"/>
            <a:ext cx="2194200" cy="2514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600x400_gallery_SC_Movie_Theater_1"/>
          <p:cNvPicPr/>
          <p:nvPr/>
        </p:nvPicPr>
        <p:blipFill>
          <a:blip r:embed="rId2"/>
          <a:stretch/>
        </p:blipFill>
        <p:spPr>
          <a:xfrm>
            <a:off x="304920" y="4267080"/>
            <a:ext cx="2933640" cy="1955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Moorings-Restaurant-Kerry"/>
          <p:cNvPicPr/>
          <p:nvPr/>
        </p:nvPicPr>
        <p:blipFill>
          <a:blip r:embed="rId3"/>
          <a:stretch/>
        </p:blipFill>
        <p:spPr>
          <a:xfrm>
            <a:off x="5943600" y="1219320"/>
            <a:ext cx="2919240" cy="19461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3"/>
          <p:cNvSpPr/>
          <p:nvPr/>
        </p:nvSpPr>
        <p:spPr>
          <a:xfrm>
            <a:off x="5867280" y="3276720"/>
            <a:ext cx="3276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ing Out to Eat - Restaur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30.00 per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5" descr="ski_praz_sur_arly"/>
          <p:cNvPicPr/>
          <p:nvPr/>
        </p:nvPicPr>
        <p:blipFill>
          <a:blip r:embed="rId4"/>
          <a:stretch/>
        </p:blipFill>
        <p:spPr>
          <a:xfrm>
            <a:off x="7086600" y="4038480"/>
            <a:ext cx="1652760" cy="24814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6"/>
          <p:cNvSpPr/>
          <p:nvPr/>
        </p:nvSpPr>
        <p:spPr>
          <a:xfrm>
            <a:off x="4572000" y="5486400"/>
            <a:ext cx="3276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ki/Snowboar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son Pass: $110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: $40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tainment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657600" y="1219320"/>
            <a:ext cx="3276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2,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thly: $125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et Acc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$30.00 month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Core2DuoPCBanner"/>
          <p:cNvPicPr/>
          <p:nvPr/>
        </p:nvPicPr>
        <p:blipFill>
          <a:blip r:embed="rId1"/>
          <a:srcRect l="30404" t="0" r="0" b="0"/>
          <a:stretch/>
        </p:blipFill>
        <p:spPr>
          <a:xfrm>
            <a:off x="228600" y="1219320"/>
            <a:ext cx="3314880" cy="2571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xbox-360-vs-sony-ps3-nintendo-revolution"/>
          <p:cNvPicPr/>
          <p:nvPr/>
        </p:nvPicPr>
        <p:blipFill>
          <a:blip r:embed="rId2"/>
          <a:stretch/>
        </p:blipFill>
        <p:spPr>
          <a:xfrm>
            <a:off x="533520" y="3962520"/>
            <a:ext cx="2438280" cy="23572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9"/>
          <p:cNvSpPr/>
          <p:nvPr/>
        </p:nvSpPr>
        <p:spPr>
          <a:xfrm>
            <a:off x="3048120" y="4343400"/>
            <a:ext cx="327636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ox 3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350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Games &amp; Controll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500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75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" descr="pets"/>
          <p:cNvPicPr/>
          <p:nvPr/>
        </p:nvPicPr>
        <p:blipFill>
          <a:blip r:embed="rId3"/>
          <a:stretch/>
        </p:blipFill>
        <p:spPr>
          <a:xfrm>
            <a:off x="4343400" y="2743200"/>
            <a:ext cx="2685960" cy="19731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2"/>
          <p:cNvSpPr/>
          <p:nvPr/>
        </p:nvSpPr>
        <p:spPr>
          <a:xfrm>
            <a:off x="7010280" y="2971800"/>
            <a:ext cx="19051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30.00 month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10 for each additional p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tainment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Motor_home_MG_1022"/>
          <p:cNvPicPr/>
          <p:nvPr/>
        </p:nvPicPr>
        <p:blipFill>
          <a:blip r:embed="rId1"/>
          <a:stretch/>
        </p:blipFill>
        <p:spPr>
          <a:xfrm>
            <a:off x="685800" y="1295280"/>
            <a:ext cx="2362320" cy="14335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3200400" y="1447920"/>
            <a:ext cx="3809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tor 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55,000 - $600/month 1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18,000 - $175/month 1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pagani-sound-system"/>
          <p:cNvPicPr/>
          <p:nvPr/>
        </p:nvPicPr>
        <p:blipFill>
          <a:blip r:embed="rId2"/>
          <a:stretch/>
        </p:blipFill>
        <p:spPr>
          <a:xfrm>
            <a:off x="609480" y="2895480"/>
            <a:ext cx="2438640" cy="19130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3200400" y="3048120"/>
            <a:ext cx="3809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nd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ent: $1,800 = $80/month/2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ount: $900 = $45/month/2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3276720" y="4952880"/>
            <a:ext cx="4114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Phon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,000 minutes - $6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limited, High-end = $12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0" descr="http://gadgetophilia.com/wp-content/uploads/2009/06/n97iphone.jpg"/>
          <p:cNvPicPr/>
          <p:nvPr/>
        </p:nvPicPr>
        <p:blipFill>
          <a:blip r:embed="rId3"/>
          <a:stretch/>
        </p:blipFill>
        <p:spPr>
          <a:xfrm>
            <a:off x="6553080" y="4419720"/>
            <a:ext cx="221004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0"/>
          <p:cNvSpPr/>
          <p:nvPr/>
        </p:nvSpPr>
        <p:spPr>
          <a:xfrm>
            <a:off x="4800600" y="533520"/>
            <a:ext cx="380988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ixer-U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“fixer-upper” in a run-down neighborhood with higher levels of crime and on a busy road. Very close to city. 2 bedrooms, 1 bath, hardwood floors, air-conditio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15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: $7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9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457200" y="3429000"/>
            <a:ext cx="35812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tie Patoo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e but small three-bedroom house only 20 minutes to city limits in desirable area, close to the University. Built in 1925, needs repairs. Highly valuable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: 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: $1,100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tgage: $1,500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3" descr="Click for details"/>
          <p:cNvPicPr/>
          <p:nvPr/>
        </p:nvPicPr>
        <p:blipFill>
          <a:blip r:embed="rId1"/>
          <a:stretch/>
        </p:blipFill>
        <p:spPr>
          <a:xfrm>
            <a:off x="4495680" y="35053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61" name="Right Arrow 5"/>
          <p:cNvSpPr/>
          <p:nvPr/>
        </p:nvSpPr>
        <p:spPr>
          <a:xfrm>
            <a:off x="4343400" y="137160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ight Arrow 6"/>
          <p:cNvSpPr/>
          <p:nvPr/>
        </p:nvSpPr>
        <p:spPr>
          <a:xfrm rot="10618200">
            <a:off x="3809520" y="380952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Primary Photo [click for next photo]"/>
          <p:cNvPicPr/>
          <p:nvPr/>
        </p:nvPicPr>
        <p:blipFill>
          <a:blip r:embed="rId2"/>
          <a:stretch/>
        </p:blipFill>
        <p:spPr>
          <a:xfrm>
            <a:off x="304920" y="304920"/>
            <a:ext cx="3759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http://www.ksl.com/emedia/slc/2472/247249/24724973.jpg?filter=ksl/gallery1"/>
          <p:cNvPicPr/>
          <p:nvPr/>
        </p:nvPicPr>
        <p:blipFill>
          <a:blip r:embed="rId1"/>
          <a:srcRect l="0" t="0" r="5659" b="0"/>
          <a:stretch/>
        </p:blipFill>
        <p:spPr>
          <a:xfrm>
            <a:off x="152280" y="304920"/>
            <a:ext cx="3810240" cy="29908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4876920" y="380880"/>
            <a:ext cx="38862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ment A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studio apartment (one-room) in semi-restored older home. Hot plate and fridge, shared bath, laundry in basement. 20 minutes to downtow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:$52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152280" y="4038480"/>
            <a:ext cx="388620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fortable Mid-Size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size house in good area, in a quiet area. Needs some work, three bedroom. On road with higher traffi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219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: $1,0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1,3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ight Arrow 5"/>
          <p:cNvSpPr/>
          <p:nvPr/>
        </p:nvSpPr>
        <p:spPr>
          <a:xfrm>
            <a:off x="4114800" y="45720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ight Arrow 6"/>
          <p:cNvSpPr/>
          <p:nvPr/>
        </p:nvSpPr>
        <p:spPr>
          <a:xfrm rot="10800000">
            <a:off x="4114800" y="380988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Primary Photo [click for next photo]"/>
          <p:cNvPicPr/>
          <p:nvPr/>
        </p:nvPicPr>
        <p:blipFill>
          <a:blip r:embed="rId2"/>
          <a:stretch/>
        </p:blipFill>
        <p:spPr>
          <a:xfrm>
            <a:off x="4800600" y="3505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0"/>
          <p:cNvSpPr/>
          <p:nvPr/>
        </p:nvSpPr>
        <p:spPr>
          <a:xfrm>
            <a:off x="4800600" y="533520"/>
            <a:ext cx="38098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ylish Executive 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stled near the mountains in an exclusive neighborhood, close to ski resorts, and far from the nearest grocery store. 6 bedrooms, 4 bath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62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3,5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457200" y="3276720"/>
            <a:ext cx="35812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dma’s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, cute, and a little fussy. Located on a busy road in an unpopular area of town. Landscaped, 2 car garage, 4 bedrooms, 2 baths, more than 50 years 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: $12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: $550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tgage: $700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ight Arrow 5"/>
          <p:cNvSpPr/>
          <p:nvPr/>
        </p:nvSpPr>
        <p:spPr>
          <a:xfrm>
            <a:off x="4343400" y="137160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ight Arrow 6"/>
          <p:cNvSpPr/>
          <p:nvPr/>
        </p:nvSpPr>
        <p:spPr>
          <a:xfrm rot="10618200">
            <a:off x="3809520" y="380952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Primary Photo [click for next photo]"/>
          <p:cNvPicPr/>
          <p:nvPr/>
        </p:nvPicPr>
        <p:blipFill>
          <a:blip r:embed="rId1"/>
          <a:stretch/>
        </p:blipFill>
        <p:spPr>
          <a:xfrm>
            <a:off x="304920" y="22860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Primary Photo [click for next photo]"/>
          <p:cNvPicPr/>
          <p:nvPr/>
        </p:nvPicPr>
        <p:blipFill>
          <a:blip r:embed="rId2"/>
          <a:stretch/>
        </p:blipFill>
        <p:spPr>
          <a:xfrm>
            <a:off x="4419720" y="335268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9" descr="http://www.ksl.com/emedia/slc/2473/247382/24738229.jpg?filter=ksl/gallery1"/>
          <p:cNvPicPr/>
          <p:nvPr/>
        </p:nvPicPr>
        <p:blipFill>
          <a:blip r:embed="rId1"/>
          <a:srcRect l="0" t="0" r="7889" b="0"/>
          <a:stretch/>
        </p:blipFill>
        <p:spPr>
          <a:xfrm>
            <a:off x="228600" y="380880"/>
            <a:ext cx="3886200" cy="31244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419720" y="380880"/>
            <a:ext cx="388620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tored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ored four-bedroom century home in the heritage district. Original moldings, tow working fireplaces, hardwood floors, modernized kitchen and baths. Close to capital c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36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: $1,7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2,000/mon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533520" y="3962520"/>
            <a:ext cx="388620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artment 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bedroom-plus-den high-rise suite. Washer-dryer, dishwasher, two bathrooms. Skyline view, club room and weight-room facilit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112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: $12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15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ight Arrow 5"/>
          <p:cNvSpPr/>
          <p:nvPr/>
        </p:nvSpPr>
        <p:spPr>
          <a:xfrm rot="10800000">
            <a:off x="3962520" y="152388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ight Arrow 8"/>
          <p:cNvSpPr/>
          <p:nvPr/>
        </p:nvSpPr>
        <p:spPr>
          <a:xfrm>
            <a:off x="4114800" y="518148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http://www.dallasluxuryleasing.com/images/Highrises/Dallas_Luxury_Highrise_Apartments_2.jpg"/>
          <p:cNvPicPr/>
          <p:nvPr/>
        </p:nvPicPr>
        <p:blipFill>
          <a:blip r:embed="rId2"/>
          <a:stretch/>
        </p:blipFill>
        <p:spPr>
          <a:xfrm>
            <a:off x="4648320" y="3733920"/>
            <a:ext cx="4119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4419720" y="380880"/>
            <a:ext cx="38862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e-bedroom, two-bath end unit in ten-year old subdivision. Five appliances, mature trees, close to school, excellent condition. Pay HOA f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19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: $9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1,100/mon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A Fees: $50.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52280" y="3733920"/>
            <a:ext cx="388620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pl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e-bedroom, 2 ½ bath in a renovated midtown duplex. Ten-foot ceilings, no yard, quiet stree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18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: $9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1,0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Arrow 5"/>
          <p:cNvSpPr/>
          <p:nvPr/>
        </p:nvSpPr>
        <p:spPr>
          <a:xfrm>
            <a:off x="3962520" y="152388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ight Arrow 6"/>
          <p:cNvSpPr/>
          <p:nvPr/>
        </p:nvSpPr>
        <p:spPr>
          <a:xfrm rot="10996200">
            <a:off x="3733920" y="495252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Primary Photo [click for next photo]"/>
          <p:cNvPicPr/>
          <p:nvPr/>
        </p:nvPicPr>
        <p:blipFill>
          <a:blip r:embed="rId1"/>
          <a:stretch/>
        </p:blipFill>
        <p:spPr>
          <a:xfrm>
            <a:off x="4343400" y="335268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Primary Photo [click for next photo]"/>
          <p:cNvPicPr/>
          <p:nvPr/>
        </p:nvPicPr>
        <p:blipFill>
          <a:blip r:embed="rId2"/>
          <a:srcRect l="0" t="0" r="0" b="12819"/>
          <a:stretch/>
        </p:blipFill>
        <p:spPr>
          <a:xfrm>
            <a:off x="152280" y="609480"/>
            <a:ext cx="373392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6"/>
          <p:cNvSpPr/>
          <p:nvPr/>
        </p:nvSpPr>
        <p:spPr>
          <a:xfrm>
            <a:off x="4419720" y="380880"/>
            <a:ext cx="38862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scale 4-Bedro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bedroom, 3 bath, in upscale area. Close to good schools, about 20 minutes from metro area. Shopping nearby, but in a nice neighborhood. Not on a busy ro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3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1,703/mon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52280" y="3733920"/>
            <a:ext cx="388620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ner City 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bedroom, 2 bath, in less popular part of town. Beautiful home, but a more dangerous neighborhood. On a quiet str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207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: $1,0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1,2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ight Arrow 5"/>
          <p:cNvSpPr/>
          <p:nvPr/>
        </p:nvSpPr>
        <p:spPr>
          <a:xfrm>
            <a:off x="3962520" y="152388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ight Arrow 6"/>
          <p:cNvSpPr/>
          <p:nvPr/>
        </p:nvSpPr>
        <p:spPr>
          <a:xfrm rot="10996200">
            <a:off x="3733920" y="495252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Primary Photo [click for next photo]"/>
          <p:cNvPicPr/>
          <p:nvPr/>
        </p:nvPicPr>
        <p:blipFill>
          <a:blip r:embed="rId1"/>
          <a:stretch/>
        </p:blipFill>
        <p:spPr>
          <a:xfrm>
            <a:off x="228600" y="5335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Primary Photo [click for next photo]"/>
          <p:cNvPicPr/>
          <p:nvPr/>
        </p:nvPicPr>
        <p:blipFill>
          <a:blip r:embed="rId2"/>
          <a:stretch/>
        </p:blipFill>
        <p:spPr>
          <a:xfrm>
            <a:off x="4419720" y="3352680"/>
            <a:ext cx="41655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1" descr="Primary Photo [click for next photo]"/>
          <p:cNvPicPr/>
          <p:nvPr/>
        </p:nvPicPr>
        <p:blipFill>
          <a:blip r:embed="rId1"/>
          <a:srcRect l="0" t="0" r="0" b="18339"/>
          <a:stretch/>
        </p:blipFill>
        <p:spPr>
          <a:xfrm>
            <a:off x="152280" y="4114800"/>
            <a:ext cx="4105440" cy="2514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obj162894?view=1126"/>
          <p:cNvPicPr/>
          <p:nvPr/>
        </p:nvPicPr>
        <p:blipFill>
          <a:blip r:embed="rId2"/>
          <a:stretch/>
        </p:blipFill>
        <p:spPr>
          <a:xfrm>
            <a:off x="228600" y="380880"/>
            <a:ext cx="3733920" cy="24894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4419720" y="228600"/>
            <a:ext cx="388620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dsize A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-bedroom walk-up apartment in midtown. Close to shopping, transit, and thea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t: $450/month (live with roomm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t: $850/month (live by yoursel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t: $250/month (share room w/ roomm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380880" y="3124080"/>
            <a:ext cx="3886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ing at h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parents/fam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: $50/week, $2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4419720" y="4672080"/>
            <a:ext cx="38862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-Bedroom, 5-bath mansion in private area. Great view, horse property, recent upgrades and remodeling, separate apartment downstai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1,099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6,3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ight Arrow 7"/>
          <p:cNvSpPr/>
          <p:nvPr/>
        </p:nvSpPr>
        <p:spPr>
          <a:xfrm>
            <a:off x="3962520" y="68580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ight Arrow 8"/>
          <p:cNvSpPr/>
          <p:nvPr/>
        </p:nvSpPr>
        <p:spPr>
          <a:xfrm>
            <a:off x="3886200" y="3048120"/>
            <a:ext cx="457200" cy="533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ight Arrow 9"/>
          <p:cNvSpPr/>
          <p:nvPr/>
        </p:nvSpPr>
        <p:spPr>
          <a:xfrm rot="10800000">
            <a:off x="3962520" y="5105160"/>
            <a:ext cx="457200" cy="533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4572000" y="2438280"/>
            <a:ext cx="3809880" cy="20574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PARENT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US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5:01:32Z</dcterms:created>
  <dc:creator>MNielson</dc:creator>
  <dc:description/>
  <dc:language>en-US</dc:language>
  <cp:lastModifiedBy>megan.rees</cp:lastModifiedBy>
  <dcterms:modified xsi:type="dcterms:W3CDTF">2010-10-29T16:01:41Z</dcterms:modified>
  <cp:revision>51</cp:revision>
  <dc:subject/>
  <dc:title>TLC</dc:title>
</cp:coreProperties>
</file>