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33.png" ContentType="image/png"/>
  <Override PartName="/ppt/media/image12.wmf" ContentType="image/x-wmf"/>
  <Override PartName="/ppt/media/image27.png" ContentType="image/png"/>
  <Override PartName="/ppt/media/image34.png" ContentType="image/png"/>
  <Override PartName="/ppt/media/image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5B96-4F84-4518-9732-C435B41E6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87B2-E723-49ED-8DD1-951FA9ED8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AD1-5966-4B31-ABB5-7C4A937D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BCB-98E2-451B-AA0C-D5628282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837-4EAA-4E0F-ADB0-0388443E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148-CB39-4B61-96EB-BCAE3DD9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334-FABE-4C58-846A-B0D1B70D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4DE-3F9B-47C3-9241-61A52ADA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BFE-5CB7-462C-AE99-1F41E6C1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96B-34E4-42D0-84F8-C6B6185E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750-EA2F-43A3-BDEB-A2C716AD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438-6BAC-4C2B-A557-460A4DAF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936-1929-4DA0-9A5A-453CAA74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0C9-06DF-4B6D-A050-2ADC47D9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CFD1-CDE1-4194-805A-69077C57C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35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lassroom Clash Logo.jp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3164040" y="4937040"/>
            <a:ext cx="25714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a job that requires you to work at 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2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ecurity Guar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2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3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Nurs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3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3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olice Offic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3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ast Foo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4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Docto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4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as Station/Convenienc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14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15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15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15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6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ocery Sto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6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173" name="Content Placeholder 2"/>
          <p:cNvSpPr/>
          <p:nvPr/>
        </p:nvSpPr>
        <p:spPr>
          <a:xfrm>
            <a:off x="457200" y="4313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ngs teachers repeat a l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ngs teachers repeat a l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8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e quiet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8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9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Directio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9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9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Question &amp; Answ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9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Due Dates/Homewor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0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ay Attention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0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it Dow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Rectangle 13"/>
          <p:cNvGrpSpPr/>
          <p:nvPr/>
        </p:nvGrpSpPr>
        <p:grpSpPr>
          <a:xfrm>
            <a:off x="7431120" y="2328840"/>
            <a:ext cx="974520" cy="871560"/>
            <a:chOff x="7431120" y="2328840"/>
            <a:chExt cx="974520" cy="871560"/>
          </a:xfrm>
        </p:grpSpPr>
        <p:pic>
          <p:nvPicPr>
            <p:cNvPr id="208" name="Rectangle 13" descr=""/>
            <p:cNvPicPr/>
            <p:nvPr/>
          </p:nvPicPr>
          <p:blipFill>
            <a:blip r:embed="rId9"/>
            <a:stretch/>
          </p:blipFill>
          <p:spPr>
            <a:xfrm>
              <a:off x="7431120" y="23288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21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1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1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27" name="Content Placeholder 2"/>
          <p:cNvSpPr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s people calm dow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5" descr=""/>
          <p:cNvPicPr/>
          <p:nvPr/>
        </p:nvPicPr>
        <p:blipFill>
          <a:blip r:embed="rId2"/>
          <a:stretch/>
        </p:blipFill>
        <p:spPr>
          <a:xfrm>
            <a:off x="755640" y="811080"/>
            <a:ext cx="74246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s people calm dow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39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reath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42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45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editate/Relax/TV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48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51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un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54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Exercis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57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unch Stuff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60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isten to Music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63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266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69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72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275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Ea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278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87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ces you go on vacation that are co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ces you go on vacation that are col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300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Alask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303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306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Antarctic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309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312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eenlan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315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ountains/Ski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318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anad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321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Yellowsto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324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327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330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333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336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ontan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339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t your big total at the bottom. The top two scores will go to FAST MON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fast money, the two people with the highest scores will get to comp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the bottom portion of your score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answers as the questions are as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timed—20 seconds to answer ALL the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son with the highest score wi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  <p:pic>
        <p:nvPicPr>
          <p:cNvPr id="348" name="Rectangle 5" descr=""/>
          <p:cNvPicPr/>
          <p:nvPr/>
        </p:nvPicPr>
        <p:blipFill>
          <a:blip r:embed="rId2"/>
          <a:stretch/>
        </p:blipFill>
        <p:spPr>
          <a:xfrm>
            <a:off x="1560600" y="5273640"/>
            <a:ext cx="58640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its that are harmless but hard to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s babies c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nimal commonly eaten for din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liday people often forget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hore you don’t mind do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0" descr="1.png"/>
          <p:cNvPicPr/>
          <p:nvPr/>
        </p:nvPicPr>
        <p:blipFill>
          <a:blip r:embed="rId1"/>
          <a:stretch/>
        </p:blipFill>
        <p:spPr>
          <a:xfrm>
            <a:off x="304920" y="704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1" descr="2.png"/>
          <p:cNvPicPr/>
          <p:nvPr/>
        </p:nvPicPr>
        <p:blipFill>
          <a:blip r:embed="rId2"/>
          <a:stretch/>
        </p:blipFill>
        <p:spPr>
          <a:xfrm>
            <a:off x="304920" y="15429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3.png"/>
          <p:cNvPicPr/>
          <p:nvPr/>
        </p:nvPicPr>
        <p:blipFill>
          <a:blip r:embed="rId3"/>
          <a:stretch/>
        </p:blipFill>
        <p:spPr>
          <a:xfrm>
            <a:off x="304920" y="23814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4.png"/>
          <p:cNvPicPr/>
          <p:nvPr/>
        </p:nvPicPr>
        <p:blipFill>
          <a:blip r:embed="rId4"/>
          <a:stretch/>
        </p:blipFill>
        <p:spPr>
          <a:xfrm>
            <a:off x="304920" y="32194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5.png"/>
          <p:cNvPicPr/>
          <p:nvPr/>
        </p:nvPicPr>
        <p:blipFill>
          <a:blip r:embed="rId5"/>
          <a:stretch/>
        </p:blipFill>
        <p:spPr>
          <a:xfrm>
            <a:off x="304920" y="40575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5" descr="6.png"/>
          <p:cNvPicPr/>
          <p:nvPr/>
        </p:nvPicPr>
        <p:blipFill>
          <a:blip r:embed="rId6"/>
          <a:stretch/>
        </p:blipFill>
        <p:spPr>
          <a:xfrm>
            <a:off x="304920" y="48960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6" descr="7.png"/>
          <p:cNvPicPr/>
          <p:nvPr/>
        </p:nvPicPr>
        <p:blipFill>
          <a:blip r:embed="rId7"/>
          <a:stretch/>
        </p:blipFill>
        <p:spPr>
          <a:xfrm>
            <a:off x="304920" y="565776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304920" y="380880"/>
          <a:ext cx="3886200" cy="323532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bits that are harmless but hard to br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ing N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e Pi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ping 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ting too m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ping Knuck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ffe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e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4495680" y="3581280"/>
          <a:ext cx="3886200" cy="2967120"/>
        </p:xfrm>
        <a:graphic>
          <a:graphicData uri="http://schemas.openxmlformats.org/drawingml/2006/table">
            <a:tbl>
              <a:tblPr/>
              <a:tblGrid>
                <a:gridCol w="3306960"/>
                <a:gridCol w="57924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holiday people often forget ab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th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’s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. Patrick’s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 Fools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hog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g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bus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4495680" y="609480"/>
          <a:ext cx="3886200" cy="2595600"/>
        </p:xfrm>
        <a:graphic>
          <a:graphicData uri="http://schemas.openxmlformats.org/drawingml/2006/table">
            <a:tbl>
              <a:tblPr/>
              <a:tblGrid>
                <a:gridCol w="3306960"/>
                <a:gridCol w="57924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sons babies c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per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304920" y="3886200"/>
          <a:ext cx="3886200" cy="259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 animal commonly eaten for d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c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hore you don’t mind do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6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Dish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6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7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lean Room/Make Be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7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7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ake out garbag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7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Vacuum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8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aundr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8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ow Lawn/Yard wor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9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20"/>
          <p:cNvGrpSpPr/>
          <p:nvPr/>
        </p:nvGrpSpPr>
        <p:grpSpPr>
          <a:xfrm>
            <a:off x="7302600" y="4005360"/>
            <a:ext cx="1231920" cy="871560"/>
            <a:chOff x="7302600" y="4005360"/>
            <a:chExt cx="1231920" cy="871560"/>
          </a:xfrm>
        </p:grpSpPr>
        <p:pic>
          <p:nvPicPr>
            <p:cNvPr id="9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302600" y="400536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Rectangle 21"/>
          <p:cNvGrpSpPr/>
          <p:nvPr/>
        </p:nvGrpSpPr>
        <p:grpSpPr>
          <a:xfrm>
            <a:off x="7302600" y="4840200"/>
            <a:ext cx="1231920" cy="871560"/>
            <a:chOff x="7302600" y="4840200"/>
            <a:chExt cx="1231920" cy="871560"/>
          </a:xfrm>
        </p:grpSpPr>
        <p:pic>
          <p:nvPicPr>
            <p:cNvPr id="9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302600" y="484020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0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lean Bathroom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0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45720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a job that requires you to work at 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5:53:02Z</dcterms:created>
  <dc:creator>megan.rees</dc:creator>
  <dc:description/>
  <dc:language>en-US</dc:language>
  <cp:lastModifiedBy>megan.rees</cp:lastModifiedBy>
  <dcterms:modified xsi:type="dcterms:W3CDTF">2010-05-21T18:18:06Z</dcterms:modified>
  <cp:revision>74</cp:revision>
  <dc:subject/>
  <dc:title>Classroom Clash</dc:title>
</cp:coreProperties>
</file>