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1.wmf" ContentType="image/x-wmf"/>
  <Override PartName="/ppt/media/image2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3CE1-CA6C-460E-9656-5D3F92E7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630E-0F5B-4A11-95ED-99C07E40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A27-115C-41D3-B3DE-CF2414DA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F98-E0C7-4723-842E-42084A78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8462-806E-421A-B846-6E0121B1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3DF-10A0-4C04-94DF-9E739C73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34E-4CF1-4A19-B1B2-CD12A33E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115-14AD-47E9-823C-7A9A6AD0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1EA-30C8-48D0-B3B6-9CFF55B9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A1E-0F32-4AEE-815D-779B5AD9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504-F028-4B8B-9083-06C0FFE2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F887-D371-4135-9943-67181881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3695-0D49-4047-AAD7-4F99E17FF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2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33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33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lassroom Clash Logo.jpg"/>
          <p:cNvPicPr/>
          <p:nvPr/>
        </p:nvPicPr>
        <p:blipFill>
          <a:blip r:embed="rId1"/>
          <a:stretch/>
        </p:blipFill>
        <p:spPr>
          <a:xfrm>
            <a:off x="115920" y="0"/>
            <a:ext cx="88758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3164040" y="4937040"/>
            <a:ext cx="25714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Christmas present teenagers ask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10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iPo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13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16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ell Phone/iPhon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19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22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one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125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Laptop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Rectangle 16"/>
          <p:cNvGrpSpPr/>
          <p:nvPr/>
        </p:nvGrpSpPr>
        <p:grpSpPr>
          <a:xfrm>
            <a:off x="324000" y="4005360"/>
            <a:ext cx="8648640" cy="944640"/>
            <a:chOff x="324000" y="4005360"/>
            <a:chExt cx="8648640" cy="944640"/>
          </a:xfrm>
        </p:grpSpPr>
        <p:pic>
          <p:nvPicPr>
            <p:cNvPr id="128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4005360"/>
              <a:ext cx="86486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Video Game System/Games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131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loth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134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137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140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143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146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tereo/Sound System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149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157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158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159" name="Content Placeholder 2"/>
          <p:cNvSpPr/>
          <p:nvPr/>
        </p:nvSpPr>
        <p:spPr>
          <a:xfrm>
            <a:off x="457200" y="4313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job where you yell at peo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job where you yell at peo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71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oach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74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77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Teache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80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83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Lawye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186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Drill Sergean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189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anage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192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op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195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198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201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04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207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onstructio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210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19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20" name="Content Placeholder 2"/>
          <p:cNvSpPr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is France known f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5" descr=""/>
          <p:cNvPicPr/>
          <p:nvPr/>
        </p:nvPicPr>
        <p:blipFill>
          <a:blip r:embed="rId2"/>
          <a:stretch/>
        </p:blipFill>
        <p:spPr>
          <a:xfrm>
            <a:off x="755640" y="811080"/>
            <a:ext cx="7424640" cy="2535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is France known f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231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Eiffel Towe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234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237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Foo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240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243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Romanc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246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Win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249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Rude Peopl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252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ari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255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258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261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64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72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73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hing you eat when trying to lose w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hing you eat when trying to lose we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286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Vegetabl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289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292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ala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4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295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298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Frui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301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rotein Bars/Shak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304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Yogur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307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Laxatives/Diet Pill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9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310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2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313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316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319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322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ea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325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t your big total at the bottom. The top two scores will go to FAST MON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fast money, the two people with the highest scores will get to compe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the bottom portion of your score 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in the answers as the questions are as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be timed—20 seconds to answer ALL the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erson with the highest score win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  <p:pic>
        <p:nvPicPr>
          <p:cNvPr id="334" name="Rectangle 5" descr=""/>
          <p:cNvPicPr/>
          <p:nvPr/>
        </p:nvPicPr>
        <p:blipFill>
          <a:blip r:embed="rId2"/>
          <a:stretch/>
        </p:blipFill>
        <p:spPr>
          <a:xfrm>
            <a:off x="1560600" y="5273640"/>
            <a:ext cx="58640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airytale where there is no father fig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hing children learn about manners that adults forg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lace people go when they want to be a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ccent that is easy to imi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hing children are afraid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0" descr="1.png"/>
          <p:cNvPicPr/>
          <p:nvPr/>
        </p:nvPicPr>
        <p:blipFill>
          <a:blip r:embed="rId1"/>
          <a:stretch/>
        </p:blipFill>
        <p:spPr>
          <a:xfrm>
            <a:off x="304920" y="704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1" descr="2.png"/>
          <p:cNvPicPr/>
          <p:nvPr/>
        </p:nvPicPr>
        <p:blipFill>
          <a:blip r:embed="rId2"/>
          <a:stretch/>
        </p:blipFill>
        <p:spPr>
          <a:xfrm>
            <a:off x="304920" y="154296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2" descr="3.png"/>
          <p:cNvPicPr/>
          <p:nvPr/>
        </p:nvPicPr>
        <p:blipFill>
          <a:blip r:embed="rId3"/>
          <a:stretch/>
        </p:blipFill>
        <p:spPr>
          <a:xfrm>
            <a:off x="304920" y="238140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3" descr="4.png"/>
          <p:cNvPicPr/>
          <p:nvPr/>
        </p:nvPicPr>
        <p:blipFill>
          <a:blip r:embed="rId4"/>
          <a:stretch/>
        </p:blipFill>
        <p:spPr>
          <a:xfrm>
            <a:off x="304920" y="32194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4" descr="5.png"/>
          <p:cNvPicPr/>
          <p:nvPr/>
        </p:nvPicPr>
        <p:blipFill>
          <a:blip r:embed="rId5"/>
          <a:stretch/>
        </p:blipFill>
        <p:spPr>
          <a:xfrm>
            <a:off x="304920" y="405756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5" descr="6.png"/>
          <p:cNvPicPr/>
          <p:nvPr/>
        </p:nvPicPr>
        <p:blipFill>
          <a:blip r:embed="rId6"/>
          <a:stretch/>
        </p:blipFill>
        <p:spPr>
          <a:xfrm>
            <a:off x="304920" y="4896000"/>
            <a:ext cx="865008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533520" y="533520"/>
          <a:ext cx="3886200" cy="323532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 fairytale where there is no father fig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dere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ow Wh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tle Red Riding H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ly Duck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ck &amp; the Beansta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sel &amp; Gre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unz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33520" y="3809880"/>
          <a:ext cx="3886200" cy="286560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 place people go when they want to be al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d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th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4572000" y="533520"/>
          <a:ext cx="3886200" cy="286524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mething children learn about manners that adults fo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ease &amp; Thank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w with mouth 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Elbows 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ck in your ch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resp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’t burp at the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4572000" y="3581280"/>
          <a:ext cx="3886200" cy="296712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 accent that is easy to imi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t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n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n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ra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r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thing children are afraid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56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onsters/Boogey Ma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59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62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The Dark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65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68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ugs/Spider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71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lown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74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Dog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77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eing Alon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80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83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86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89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sp>
        <p:nvSpPr>
          <p:cNvPr id="98" name="Content Placeholder 2"/>
          <p:cNvSpPr/>
          <p:nvPr/>
        </p:nvSpPr>
        <p:spPr>
          <a:xfrm>
            <a:off x="457200" y="4343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Christmas present most teenagers ask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5:53:02Z</dcterms:created>
  <dc:creator>megan.rees</dc:creator>
  <dc:description/>
  <dc:language>en-US</dc:language>
  <cp:lastModifiedBy>megan.rees</cp:lastModifiedBy>
  <dcterms:modified xsi:type="dcterms:W3CDTF">2010-05-21T18:54:51Z</dcterms:modified>
  <cp:revision>58</cp:revision>
  <dc:subject/>
  <dc:title>Classroom Clash</dc:title>
</cp:coreProperties>
</file>