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7076-E8E9-4266-BFF5-F494697C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DC9-B520-4C34-9BF1-EF18A0BC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33A-4E4A-4C06-8F93-01AB537A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4D6-40E6-4FAD-B84C-59ECF186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5A7-39DD-4FA8-8A1D-65AB313B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92A-E3B4-40D9-823E-BD1E8494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8A5-DABF-46B7-84D6-A0767D84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33E-35F3-4EE8-A550-95A9370A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366-5C73-4F49-94CB-E9B823C5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759-CEB1-460A-9AEF-B01FB3FA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445-ADCA-4444-8F7A-F5719BB5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CC3-44F0-44E0-98BC-777B4BEC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AA23-9727-4B92-B633-A4CE7F0CF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2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33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33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lassroom Clash Logo.jpg"/>
          <p:cNvPicPr/>
          <p:nvPr/>
        </p:nvPicPr>
        <p:blipFill>
          <a:blip r:embed="rId1"/>
          <a:stretch/>
        </p:blipFill>
        <p:spPr>
          <a:xfrm>
            <a:off x="115920" y="0"/>
            <a:ext cx="88758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3164040" y="4937040"/>
            <a:ext cx="25714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Christmas present teenagers ask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10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iPo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13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16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ell Phone/iPho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19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22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one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25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aptop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Rectangle 16"/>
          <p:cNvGrpSpPr/>
          <p:nvPr/>
        </p:nvGrpSpPr>
        <p:grpSpPr>
          <a:xfrm>
            <a:off x="324000" y="4005360"/>
            <a:ext cx="8648640" cy="944640"/>
            <a:chOff x="324000" y="4005360"/>
            <a:chExt cx="8648640" cy="944640"/>
          </a:xfrm>
        </p:grpSpPr>
        <p:pic>
          <p:nvPicPr>
            <p:cNvPr id="128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4005360"/>
              <a:ext cx="86486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Video Game System/Game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31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loth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134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137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140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143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46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tereo/Sound System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49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158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159" name="Content Placeholder 2"/>
          <p:cNvSpPr/>
          <p:nvPr/>
        </p:nvSpPr>
        <p:spPr>
          <a:xfrm>
            <a:off x="457200" y="4313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job where you yell at peo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job where you yell at peo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71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ach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74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77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each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80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83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awy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86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Drill Sergean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89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anag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92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p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195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198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01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04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207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nstruc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210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19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20" name="Content Placeholder 2"/>
          <p:cNvSpPr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is France known f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5" descr=""/>
          <p:cNvPicPr/>
          <p:nvPr/>
        </p:nvPicPr>
        <p:blipFill>
          <a:blip r:embed="rId2"/>
          <a:stretch/>
        </p:blipFill>
        <p:spPr>
          <a:xfrm>
            <a:off x="755640" y="811080"/>
            <a:ext cx="7424640" cy="253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is France known f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31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Eiffel Tow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34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37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oo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40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43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Romanc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46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Wi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49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Rude Peopl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52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ar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55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258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61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64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you eat when trying to lose w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you eat when trying to lose w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86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Vegetabl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89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92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ala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95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98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rui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301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rotein Bars/Shak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304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Yogu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307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axatives/Diet Pill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310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313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316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319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322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ea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325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t your big total at the bottom. The top two scores will go to FAST MON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fast money, the two people with the highest scores will get to comp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the bottom portion of your score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answers as the questions are as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timed—20 seconds to answer ALL the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son with the highest score wi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  <p:pic>
        <p:nvPicPr>
          <p:cNvPr id="334" name="Rectangle 5" descr=""/>
          <p:cNvPicPr/>
          <p:nvPr/>
        </p:nvPicPr>
        <p:blipFill>
          <a:blip r:embed="rId2"/>
          <a:stretch/>
        </p:blipFill>
        <p:spPr>
          <a:xfrm>
            <a:off x="1560600" y="5273640"/>
            <a:ext cx="58640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irytale where there is no father fig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children learn about manners that adults for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ce people go when they want to be a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ccent that is easy to imi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children are afraid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0" descr="1.png"/>
          <p:cNvPicPr/>
          <p:nvPr/>
        </p:nvPicPr>
        <p:blipFill>
          <a:blip r:embed="rId1"/>
          <a:stretch/>
        </p:blipFill>
        <p:spPr>
          <a:xfrm>
            <a:off x="304920" y="704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1" descr="2.png"/>
          <p:cNvPicPr/>
          <p:nvPr/>
        </p:nvPicPr>
        <p:blipFill>
          <a:blip r:embed="rId2"/>
          <a:stretch/>
        </p:blipFill>
        <p:spPr>
          <a:xfrm>
            <a:off x="304920" y="15429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2" descr="3.png"/>
          <p:cNvPicPr/>
          <p:nvPr/>
        </p:nvPicPr>
        <p:blipFill>
          <a:blip r:embed="rId3"/>
          <a:stretch/>
        </p:blipFill>
        <p:spPr>
          <a:xfrm>
            <a:off x="304920" y="23814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3" descr="4.png"/>
          <p:cNvPicPr/>
          <p:nvPr/>
        </p:nvPicPr>
        <p:blipFill>
          <a:blip r:embed="rId4"/>
          <a:stretch/>
        </p:blipFill>
        <p:spPr>
          <a:xfrm>
            <a:off x="304920" y="32194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4" descr="5.png"/>
          <p:cNvPicPr/>
          <p:nvPr/>
        </p:nvPicPr>
        <p:blipFill>
          <a:blip r:embed="rId5"/>
          <a:stretch/>
        </p:blipFill>
        <p:spPr>
          <a:xfrm>
            <a:off x="304920" y="40575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5" descr="6.png"/>
          <p:cNvPicPr/>
          <p:nvPr/>
        </p:nvPicPr>
        <p:blipFill>
          <a:blip r:embed="rId6"/>
          <a:stretch/>
        </p:blipFill>
        <p:spPr>
          <a:xfrm>
            <a:off x="304920" y="4896000"/>
            <a:ext cx="865008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533520" y="533520"/>
          <a:ext cx="3886200" cy="323532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fairytale where there is no father fig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der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ow Wh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tle Red Riding H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ly Duck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ck &amp; the Beansta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sel &amp; Gre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unz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33520" y="3809880"/>
          <a:ext cx="3886200" cy="286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place people go when they want to be al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d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th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4572000" y="533520"/>
          <a:ext cx="3886200" cy="286524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mething children learn about manners that adults fo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ease &amp;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w with mouth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Elbows 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ck in your ch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re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burp at the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572000" y="3581280"/>
          <a:ext cx="3886200" cy="296712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 accent that is easy to im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t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n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thing children are afraid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56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onsters/Boogey Ma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59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62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he Dar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65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68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ugs/Spider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71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low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74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Dog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77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eing Alo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80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83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86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89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sp>
        <p:nvSpPr>
          <p:cNvPr id="98" name="Content Placeholder 2"/>
          <p:cNvSpPr/>
          <p:nvPr/>
        </p:nvSpPr>
        <p:spPr>
          <a:xfrm>
            <a:off x="45720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Christmas present most teenagers ask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5:53:02Z</dcterms:created>
  <dc:creator>megan.rees</dc:creator>
  <dc:description/>
  <dc:language>en-US</dc:language>
  <cp:lastModifiedBy>megan.rees</cp:lastModifiedBy>
  <dcterms:modified xsi:type="dcterms:W3CDTF">2010-05-21T18:54:51Z</dcterms:modified>
  <cp:revision>58</cp:revision>
  <dc:subject/>
  <dc:title>Classroom Clash</dc:title>
</cp:coreProperties>
</file>