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8B57-9C70-4C6D-B630-E6D53DA54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8E9-E7D0-4BFA-817F-E8CFF0519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786-1A9C-4CDA-9041-9DD23A82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0A1-EA4C-4831-8842-AACF7F58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2FE-C863-457D-81D4-EBE3D235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AA2-C83B-4CA0-9CA4-C2F5C87A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CF1-E2A0-433E-81AD-1E553E9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AC3-944C-4D4C-8C1E-FB92EFC7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738-E136-469B-A67B-D909CF93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DB8-D7F2-4CE1-8878-826C7CA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083-02BA-4A5E-8555-1C0EC9DA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AC9-219C-412D-8C18-A3B1596F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9C8-3497-4D20-9732-070C4849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628-F228-45AC-8566-9468756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1B6F-49D1-4CC0-8ABB-042256E39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8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realistic career that many kids aspire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thlet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per Her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stronau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inces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vie/Rock St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esident of the U.S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rem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73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elebrity that is really annoy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elebrity that is really annoy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85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ittney Spear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8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91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iley Cyrus/Hannah M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94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7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Justin Beib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00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is Hilt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03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gan Fox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6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indsay Loh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09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12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215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8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21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Kate Gosseli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24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ood that is gr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ood that is gr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4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occoli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4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5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ettu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5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5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pina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6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6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Jell-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6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 Bea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7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7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7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7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82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ele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85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popular symbol of Hallow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popular symbol of Hallow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307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mpkin/Jack O’ Lanter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310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313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hos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316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319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it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22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kelet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25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nd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28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lack C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331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334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37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40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43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46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that are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something women do that bug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express appreciation for a loved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t of the body than can be transpla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get from here to th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33520" y="380880"/>
          <a:ext cx="3886200" cy="29624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es that are w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f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wa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" y="3886200"/>
          <a:ext cx="3886200" cy="24940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way to express appreciation for a loved 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gs/Ki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 flowers or gif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a letter/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something special for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38088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something women do that bug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/Com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k/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d M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Secr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ain about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rt with other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648320" y="365760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part of the body that can be transpla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s/C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get from here to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r</a:t>
              </a: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icyc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al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u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irpla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rai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us/Subwa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realistic career that many kids aspire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5:03Z</dcterms:modified>
  <cp:revision>56</cp:revision>
  <dc:subject/>
  <dc:title>Classroom Clash</dc:title>
</cp:coreProperties>
</file>