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AD9C-7D2A-407C-A173-8E0455108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5899-C44E-426A-B5A4-F0CE053C2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057-D564-48C5-971D-DA122E7DF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031-76C4-4F94-8917-2ECCD152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92F9-D833-4280-9A70-575CC75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4D9-8C4D-4C86-989B-F766E969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357-AB2B-4033-BD2A-EDA73B67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552-05CB-4D34-827F-3E023A81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05B-2932-4C08-9A26-4D2B254E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633-2515-4ED0-8BFC-E7B5A0F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EEE-3392-498E-912A-8893E643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8D6-848C-452B-8EB2-FB120864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831-9C54-4E34-B950-66B359E8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051-000C-45CB-BE83-DBA187C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437-3DE4-4911-AAFB-F84E20A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C883-E820-4126-9AB4-73E6636EB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0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people do when they are a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ell/Screa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nch things/wall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gh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hrow Thin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ind Tee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l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we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elative you avoid vis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elative you avoid vis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unts/Unc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8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andpar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n-Law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9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usi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9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ent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iblin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0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0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meat, something you eat at a barbe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ides meat, something you eat at a barbe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2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hip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rn on the cob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3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ked Bea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tato 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4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u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 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5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25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65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egetab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7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68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arents punish their teenag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arents punish their teenag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away cell ph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9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ound th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away c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9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nforce strict curfew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o TV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ive lect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0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31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people do when they are nerv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a student buys to get ready for colle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month where there are a lot of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super power you’d love to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04920" y="380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people do when they are ner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e N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dget/Shake/T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k F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 their 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304920" y="35053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month where there are a lot of dea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800600" y="380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a student buys when getting ready for colle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uter/lap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ck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4800600" y="35053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a super power you’d love to h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s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d-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Ray 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kin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hing people do when the speak to someone with bad brea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mething people do when the speak to someone with bad breat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Offer mint/gu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ck Off/Turn Awa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eathe through no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Hold Breat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eave/End Conversa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gnore 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ell th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466596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thing people do when they are ang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22:49Z</dcterms:modified>
  <cp:revision>63</cp:revision>
  <dc:subject/>
  <dc:title>Classroom Clash</dc:title>
</cp:coreProperties>
</file>