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7163-8AB7-4734-884B-F3284309B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15FC-40BC-4D58-90DB-F7FC9FDCC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3AA-B102-4AA9-8AD8-2A00C7069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172-F714-4ACE-8756-33CF3523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81D-90B2-4A1B-8EBE-CDE8237D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175-A671-4D9E-8709-A2D445A2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CD5-DAC6-44C4-9343-05F56AD9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CDD-99D7-4D36-991E-A7BB9B29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9A5-FC81-4510-8256-98788A0E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18B-CF0C-4B81-A244-32B4790C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5B5-059C-4C66-A524-EA4EBEC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514-429E-4B21-BA9E-F9809E05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DAE-33FB-4BD9-923F-8C39F3C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62E-2987-4A34-AC15-FC9F8F0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88D-4246-4ACA-8678-10BC181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721F-9683-4727-9657-9651DB322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0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lassroom Clash Logo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people do when they are ang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Yell/Screa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3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unch things/wall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igh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hrow Thing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ind Teet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ul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148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5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5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6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we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6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68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elative you avoid vis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elative you avoid vis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79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unts/Uncl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82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85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andparen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88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91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n-Law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94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usi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97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ren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00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ibling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03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06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09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12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ides meat, something you eat at a barbe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ides meat, something you eat at a barbe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29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ip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32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35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rn on the co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38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41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aked Bea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44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otato Sal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47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rui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50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een Sal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53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56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259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62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65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Vegetabl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68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arents punish their teenag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arents punish their teenag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8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ake away cell ph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8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9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ound the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9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9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ake away c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9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nforce strict curfew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0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No TV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0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ive lectu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0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31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1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1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people do when they are nerv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a student buys to get ready for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month where there are a lot of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super power you’d love to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04920" y="38088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thing people do when they are ner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e N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get/Shake/T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k 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 their 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04920" y="3505320"/>
          <a:ext cx="3886200" cy="28652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a month where there are a lot of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800600" y="38088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thing a student buys when getting ready for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/lap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k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800600" y="3505320"/>
          <a:ext cx="3886200" cy="28652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a super power you’d love to h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d-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-Ray 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kin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hing people do when the speak to someone with bad bre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65776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hing people do when the speak to someone with bad breat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Offer mint/gu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ack Off/Turn Awa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eathe through no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old Breat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eave/End Convers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gnore i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ell the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466596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people do when they are ang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22:49Z</dcterms:modified>
  <cp:revision>63</cp:revision>
  <dc:subject/>
  <dc:title>Classroom Clash</dc:title>
</cp:coreProperties>
</file>