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opportunemoment.wav" ContentType="audio/x-wav"/>
  <Override PartName="/ppt/media/insufferableknowitall.wav" ContentType="audio/x-wav"/>
  <Override PartName="/ppt/media/likeawierdy.wav" ContentType="audio/x-wav"/>
  <Override PartName="/ppt/media/underwear.wav" ContentType="audio/x-wav"/>
  <Override PartName="/ppt/media/somethingswrongwyou.wav" ContentType="audio/x-wav"/>
  <Override PartName="/ppt/media/mocking.wav" ContentType="audio/x-wav"/>
  <Override PartName="/ppt/media/wouldntunderstand.wav" ContentType="audio/x-wav"/>
  <Override PartName="/ppt/media/the-ritz.wav" ContentType="audio/x-wav"/>
  <Override PartName="/ppt/media/converteachother.wav" ContentType="audio/x-wav"/>
  <Override PartName="/ppt/media/killu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7129-649E-41CC-BBB4-18BF0792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317E-C495-4A3B-8409-BA39F3819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06C5-A0EE-4CC1-9EEB-337A612A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D4A5-4F5B-4B37-89C4-BE4BCD32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89EF-FFD4-4558-B080-53455EF2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E9B6-0096-4E6C-9331-2DF6A55F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BABA-AFDC-4140-B632-AC06CEF8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143D-B529-49BD-849B-CE2FAAB6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73DD-E6B2-4539-A28A-F646F3ED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5620-FB2C-457A-BA81-499111873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A1CE-E621-48ED-8020-7CDE8DEC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343-B46A-4261-AE97-931E1352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04A-BB36-4F7E-B851-B149E952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F6C-EC72-410E-AB8E-AFC81868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F6A-467A-45C0-A20A-06A7F119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4B1-6A71-4408-B5B3-7B66C6A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7EE-7BD8-488B-B8F8-476952EE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5B00-4EB6-4CF3-8001-83BE1F94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8DB-0167-4F40-B950-3F6062C0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EA2-30ED-4CD8-B7AF-8F1118CC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4BD-1FCA-4E3F-875D-4504DF6F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6AC-9197-4A6B-A27C-E099FEA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43D-84F5-46BB-B49B-8CED1698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7E53-0B9C-4E3A-9CA4-80860625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opportunemomen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he-ritz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ikeawie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insufferableknowita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underwe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ockin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ouldntundersta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onverteachoth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killu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omethingswrongwyou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Keystroke"/>
                <a:ea typeface="Keystroke"/>
              </a:rPr>
              <a:t>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Kabel Bk BT"/>
              </a:rPr>
              <a:t>V ,?, /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57200" y="129528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Happily Ever After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3352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Victori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6002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000000"/>
                </a:solidFill>
                <a:latin typeface="Arial"/>
              </a:rPr>
              <a:t>Valentin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80880" y="1600200"/>
            <a:ext cx="91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0000"/>
                </a:solidFill>
                <a:latin typeface="Arial"/>
              </a:rPr>
              <a:t>Invested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52280" y="1447920"/>
            <a:ext cx="85345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000000"/>
                </a:solidFill>
                <a:latin typeface="Arial"/>
              </a:rPr>
              <a:t>Evan verified?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-152280" y="15238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nip/tuck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523880"/>
            <a:ext cx="9448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0" spc="-1" strike="noStrike">
                <a:solidFill>
                  <a:srgbClr val="000000"/>
                </a:solidFill>
                <a:latin typeface="Arial"/>
              </a:rPr>
              <a:t>his/hers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04920" y="16765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ersonal/letters/  graden/novemb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27:38Z</dcterms:created>
  <dc:creator>Ryan Kameron Oldroyd</dc:creator>
  <dc:description/>
  <dc:language>en-US</dc:language>
  <cp:lastModifiedBy>megan.rees</cp:lastModifiedBy>
  <dcterms:modified xsi:type="dcterms:W3CDTF">2010-02-04T17:29:11Z</dcterms:modified>
  <cp:revision>33</cp:revision>
  <dc:subject/>
  <dc:title>Home Row</dc:title>
</cp:coreProperties>
</file>