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pportunemoment.wav" ContentType="audio/x-wav"/>
  <Override PartName="/ppt/media/insufferableknowitall.wav" ContentType="audio/x-wav"/>
  <Override PartName="/ppt/media/likeawierdy.wav" ContentType="audio/x-wav"/>
  <Override PartName="/ppt/media/underwear.wav" ContentType="audio/x-wav"/>
  <Override PartName="/ppt/media/somethingswrongwyou.wav" ContentType="audio/x-wav"/>
  <Override PartName="/ppt/media/mocking.wav" ContentType="audio/x-wav"/>
  <Override PartName="/ppt/media/wouldntunderstand.wav" ContentType="audio/x-wav"/>
  <Override PartName="/ppt/media/the-ritz.wav" ContentType="audio/x-wav"/>
  <Override PartName="/ppt/media/converteachother.wav" ContentType="audio/x-wav"/>
  <Override PartName="/ppt/media/killu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0D1E-C605-4778-B3F7-C38DE647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8B5C-7FB1-4779-9582-3536DA18D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CF1A-025C-4E59-B4D0-6D949745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778-6E1F-42EF-A793-B6A41F43C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4DB-9F42-4ACA-8826-5B3CE5DBB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072-6848-4318-9DBF-04CCAB59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8C28-EFBF-4A22-9FD8-4F15762CE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16E4-904E-43D1-8DD9-ABE892D3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8C5-44D7-4EA3-A6A2-623C57352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30AA-C2FC-4615-B7CF-5987919A8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9B3-4674-4672-945B-954519B5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BB8-F027-4F1C-A197-0B22D2D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EB1-C69D-42FB-BDAE-E526FAA3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48A-29A9-41ED-A9BA-B4A5FEF1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20F-09B0-4E8B-A06C-0B5724FB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E008-C2C1-4A21-B0AD-BA955A8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9BC-4897-4416-8464-A96CD0B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C8D-BDE9-438A-85E9-958CA743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37A-57E1-41BA-88AA-B3CA6966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DBC-5511-4D5D-AEE8-F1FDB56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45E-F465-4202-99BC-16D5311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925F-F09B-400D-B561-104C8799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B3B-8360-42E1-9C91-97DFADB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EF2-287D-40D4-800C-A66C0F6B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pportunemomen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he-ritz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ikeawie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insufferableknowita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underwe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ocki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ouldntundersta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nverteachoth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killu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omethingswrongwyou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V ,?, /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" y="129528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ppily Ever After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3352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600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Valentin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160020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Invested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52280" y="1447920"/>
            <a:ext cx="8534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Evan verified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-152280" y="15238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nip/tuc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523880"/>
            <a:ext cx="9448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his/her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1676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onal/letters/  graden/novemb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29:11Z</dcterms:modified>
  <cp:revision>33</cp:revision>
  <dc:subject/>
  <dc:title>Home Row</dc:title>
</cp:coreProperties>
</file>