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omb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B793-2E5E-4BAD-AD9A-E94B00181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40AE-21FD-48C9-A099-5AEFDD62B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34DE-435A-4703-9004-5E1287361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AFB1-44D3-4CF0-86A7-F55BBEA78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F759-B961-4060-A88D-5834516E7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BC6A-3301-4D60-B5CF-CE3A62071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173D-F691-4684-A102-F2F00651C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CFC4-1333-4298-825F-4997BA5BA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197B-CEEB-4885-9B61-A74666537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3AC1-36F0-4216-9335-4E55FB27A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7668-14DF-43EB-AFE9-CF58FD88E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2BD9-AF91-450B-849D-4C1436A4E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3F2-69A0-4403-A533-9CDF7E40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F57-D991-44AA-B60C-40CA1A3E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F8F7-93B9-4B82-9072-483EDB6C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D046-3E28-4C47-B1D8-919EE8DA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4F3-454A-4274-9F44-39F19B20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B79-25F9-4AD3-860F-7ADBC906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D171-AFA6-473A-A0B2-92673B30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2978-6300-4828-B7C3-A15CAAA3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073D-F46C-484C-82A9-3E1A2B2A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0B75-85F1-42B1-8347-F0651C5C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7D0-B9ED-4751-A968-A1703F26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E68-34C5-4BDA-854B-D1977311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FD36-B2B9-4653-A5D4-A59A68841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Keystroke"/>
                <a:ea typeface="Keystroke"/>
              </a:rPr>
              <a:t></a:t>
            </a:r>
            <a:r>
              <a:rPr b="0" lang="en-US" sz="10000" spc="-1" strike="noStrike">
                <a:solidFill>
                  <a:srgbClr val="000000"/>
                </a:solidFill>
                <a:latin typeface="Kabel Bk BT"/>
              </a:rPr>
              <a:t>G,:,Q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28600" y="152280"/>
            <a:ext cx="8534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Gwen: Salad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04920" y="182880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acqueline: Drink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3505320"/>
            <a:ext cx="8534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Quentin: Frui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457200"/>
            <a:ext cx="883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Garrett, Greg, and Glen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371600" y="1828800"/>
            <a:ext cx="716292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500" spc="-1" strike="noStrike">
                <a:solidFill>
                  <a:srgbClr val="000000"/>
                </a:solidFill>
                <a:latin typeface="Arial"/>
              </a:rPr>
              <a:t>geek</a:t>
            </a:r>
            <a:endParaRPr b="0" lang="en-US" sz="1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5800" y="1295280"/>
            <a:ext cx="75438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0" spc="-1" strike="noStrike">
                <a:solidFill>
                  <a:srgbClr val="000000"/>
                </a:solidFill>
                <a:latin typeface="Arial"/>
              </a:rPr>
              <a:t>quilted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990720" y="1752480"/>
            <a:ext cx="79246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Quinn: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Quagmir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04920" y="1066680"/>
            <a:ext cx="853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Arial"/>
              </a:rPr>
              <a:t>Guest List: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742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Queen</a:t>
            </a:r>
            <a:br>
              <a:rPr sz="12000"/>
            </a:b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Gretchen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33520" y="99072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Arial"/>
              </a:rPr>
              <a:t>Gretta Garbo: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533520" y="914400"/>
            <a:ext cx="861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Monique, get going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27:38Z</dcterms:created>
  <dc:creator>Ryan Kameron Oldroyd</dc:creator>
  <dc:description/>
  <dc:language>en-US</dc:language>
  <cp:lastModifiedBy>megan.rees</cp:lastModifiedBy>
  <dcterms:modified xsi:type="dcterms:W3CDTF">2010-02-10T15:08:51Z</dcterms:modified>
  <cp:revision>30</cp:revision>
  <dc:subject/>
  <dc:title>Home Row</dc:title>
</cp:coreProperties>
</file>