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7DAC-2055-4905-8786-BDD6BB606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38F4-915B-4550-93F0-86AB985F6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4922-9C7D-46FE-93CF-1FF758635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4341-6D06-4B81-B934-BB4485006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87BD-874C-4DDA-A948-7024DB966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A898-8631-46E5-91F3-FE2E7A59E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16A8-DD69-4084-A0E6-C626E7D97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799A-C9F5-4CF8-8980-2BFDE6BEE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1CEC-7401-4246-93FF-D97335AE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861A-3330-42E7-BE2D-B1E7BC2FE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8FCB-2737-422A-A440-503E5031D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157F-47FB-4A5A-965A-52204F616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52CF-864D-4A1C-A350-4AAD1C91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667-341C-4148-B9C1-03A3EF6D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A2E-8E49-46F4-A7FE-9FF81757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DCA-F361-4A8F-9BF3-69AF61EA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B6F-D406-4EE6-8E72-C03B02DE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C20-2C2E-4C7A-84A6-C1117284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C90-4B3E-4719-97C4-05F6FB53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9DD-C105-4401-A748-15922AAE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F2E-1BF9-4EC8-B3FD-6B213638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2C15-1602-4AC3-B242-232A9B6A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E14-B9B5-4CCD-8CA4-F99B96A4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A88-56B6-4836-9A70-5006C4FC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5EB3-D0E7-4B8A-BA28-ECE864ABD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</a:t>
            </a:r>
            <a:r>
              <a:rPr b="0" lang="en-US" sz="10000" spc="-1" strike="noStrike">
                <a:solidFill>
                  <a:srgbClr val="000000"/>
                </a:solidFill>
                <a:latin typeface="Kabel Bk BT"/>
              </a:rPr>
              <a:t>G,:,Q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28600" y="152280"/>
            <a:ext cx="8534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Gwen: Sala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04920" y="182880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acqueline: Drink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3505320"/>
            <a:ext cx="8534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Quentin: Frui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457200"/>
            <a:ext cx="883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Garrett, Greg, and Glen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371600" y="1828800"/>
            <a:ext cx="716292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geek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5800" y="1295280"/>
            <a:ext cx="75438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000000"/>
                </a:solidFill>
                <a:latin typeface="Arial"/>
              </a:rPr>
              <a:t>quilted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90720" y="1752480"/>
            <a:ext cx="79246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Quinn: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Quagmir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04920" y="1066680"/>
            <a:ext cx="85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Guest List: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742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Queen</a:t>
            </a:r>
            <a:br>
              <a:rPr sz="12000"/>
            </a:b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Gretc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3520" y="99072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Arial"/>
              </a:rPr>
              <a:t>Gretta Garbo: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3520" y="9144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Monique, get goi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10T15:08:51Z</dcterms:modified>
  <cp:revision>30</cp:revision>
  <dc:subject/>
  <dc:title>Home Row</dc:title>
</cp:coreProperties>
</file>