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ind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0B69-1BE2-48C4-9DD3-62DD2855E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FEC0-046E-4456-A2D1-ED8940664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4B97-CD97-422B-AF50-5E1683528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65DA-EFA7-4869-ACF2-06853B950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6DA3-3C86-41EC-8117-400DB3010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E9C6-35F0-493C-AF00-A89D82A12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8D6E-C3B8-49E0-9E03-F63FABDA4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F68C-378E-4459-BFCE-FD5D53C4F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448C-0C3A-4705-A407-E09CABBAC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2C70-1787-4D3C-850D-BC95A876C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7D10-1E1B-4AC9-803B-843E4DBD5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7C3D-8331-49E1-8929-E5B95AAA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4A1-2861-48D3-80DB-92BF42EE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DD3-FA12-448F-81C4-F26329C1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F9F2-9C84-4A35-8AE0-C078A0CA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EDA3-52DC-46D8-BAF9-9DFBE83E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912F-26B7-4617-8602-EA5CF434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E11A-AA2C-4CEE-AB59-95AA4550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2E9-FF3D-44A3-878D-C83772A7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381E-32BE-4BDF-8AA4-0168DB85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379-1BBF-4B79-ABBD-C7A5FBB5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1FA-B490-4B74-A086-66F235C2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7879-E27F-4214-B105-DB0CBEF5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c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78BF-63EE-48C1-BB41-1FC2394F4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Keystroke"/>
                <a:ea typeface="Keystroke"/>
              </a:rPr>
              <a:t></a:t>
            </a:r>
            <a:r>
              <a:rPr b="0" lang="en-US" sz="10000" spc="-1" strike="noStrike">
                <a:solidFill>
                  <a:srgbClr val="000000"/>
                </a:solidFill>
                <a:latin typeface="Kabel Bk BT"/>
              </a:rPr>
              <a:t>B,P,W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0" y="205740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BYU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914400" y="304920"/>
            <a:ext cx="762012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eep bop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17524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Wonderland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57200" y="1219320"/>
            <a:ext cx="853452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Woodrow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Wilso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742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Pebble</a:t>
            </a:r>
            <a:br>
              <a:rPr sz="13000"/>
            </a:br>
            <a:r>
              <a:rPr b="0" lang="en-US" sz="13000" spc="-1" strike="noStrike">
                <a:solidFill>
                  <a:srgbClr val="000000"/>
                </a:solidFill>
                <a:latin typeface="Arial"/>
              </a:rPr>
              <a:t>Beach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bobblehea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18288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Mississipp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-304920" y="685800"/>
            <a:ext cx="100584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0" spc="-1" strike="noStrike">
                <a:solidFill>
                  <a:srgbClr val="000000"/>
                </a:solidFill>
                <a:latin typeface="Arial"/>
              </a:rPr>
              <a:t>powder puff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762120"/>
            <a:ext cx="91440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0" spc="-1" strike="noStrike">
                <a:solidFill>
                  <a:srgbClr val="000000"/>
                </a:solidFill>
                <a:latin typeface="Arial"/>
              </a:rPr>
              <a:t>Blues Clues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27:38Z</dcterms:created>
  <dc:creator>Ryan Kameron Oldroyd</dc:creator>
  <dc:description/>
  <dc:language>en-US</dc:language>
  <cp:lastModifiedBy>megan.rees</cp:lastModifiedBy>
  <dcterms:modified xsi:type="dcterms:W3CDTF">2010-02-04T17:32:52Z</dcterms:modified>
  <cp:revision>44</cp:revision>
  <dc:subject/>
  <dc:title>Home Row</dc:title>
</cp:coreProperties>
</file>