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EAD3-66A6-4B29-9FD0-C51070BA0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FF90-A6D6-4EC3-8CD5-655B6BBD5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134-1ECB-4325-AE2B-3548CFC65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D5B8-DDBD-4415-8237-A546AC76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9FAD-D7DA-4391-BF2B-DAE13B03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D355-4AA2-4B70-8D04-896B8788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A49F-29DB-4757-8614-D5829A831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57AE-AB24-463A-97B1-A38822FB5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E446-65F3-4926-8DB6-82912C8DF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D736-6A79-4AD7-AA52-9609283D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1C8-0D1D-4B95-B269-83B547C8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EB2-0061-4B76-94E7-49769B77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B35-F6C3-4AD0-8EA1-D262A05B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638-9DBF-400E-A965-68C97A81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32E-7963-42B8-9636-2421A4AE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4AE-53D2-447C-934A-F03733E5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A73-4A83-4B39-9F85-84A32B81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540-3EFF-42FD-8F4C-19E55256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5880-82A6-4194-91E0-579706E0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6E7-3F7F-4911-AF2B-9D0B12EB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6B1-F5E4-4B4E-AD1C-08CE0DC9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4C7-F255-48C0-952D-5C87EC6E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A92-8EAC-4CCF-8639-C5E9325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c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F766-07E9-4DF5-B2F7-A2B1272BF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B,P,W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205740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BYU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14400" y="304920"/>
            <a:ext cx="76201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eep bo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7524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Wonderla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57200" y="1219320"/>
            <a:ext cx="85345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Woodrow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Pebble</a:t>
            </a:r>
            <a:br>
              <a:rPr sz="13000"/>
            </a:b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obblehe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Mississipp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-304920" y="685800"/>
            <a:ext cx="100584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powder puff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762120"/>
            <a:ext cx="9144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Blues Clues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32:52Z</dcterms:modified>
  <cp:revision>44</cp:revision>
  <dc:subject/>
  <dc:title>Home Row</dc:title>
</cp:coreProperties>
</file>