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7D4-931D-4F15-A8A9-8420FD14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1246-A299-4DE8-99D3-9B858E4E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BB74-4212-4A6B-9ECC-88C57FD9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7D3-220F-4ED8-882C-87344C82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2F8-D2FB-4D4A-B1A4-488F6F52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CB7F-D650-4F3B-9A3D-135D86DF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2100-5C44-4894-A619-5B9D8BB8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7BAA-4197-4CAC-88D4-EBF36A36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63F-1D5F-4BA5-8BC6-D3915E4FF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3471-1DA5-422B-9888-01787A77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934-6482-4035-9CFF-964DF9E0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043-B3F8-48C4-9CBC-0050EE73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BBA-F01D-444D-91B6-3CDE1C10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8A26-B9A8-40E3-B608-CC57A35A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3CD-C240-4676-8029-D0F7064C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219-9EB5-4A7E-992C-29A966B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9B0-6500-4DA8-85C5-C074F5E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5A1-591D-4ACE-86F0-C068775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64B-1E64-44FC-BE3D-23AC243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013-833F-4DAF-B8CF-BE729368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FBE-5804-4437-A922-A6F3B652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F4E-96C5-4C17-9E17-EBE4E98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287-876C-43BD-9625-DD295C65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CA4-B970-4FF1-825E-2895E698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, U, CAPS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09480" y="106668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nnah, Loretta, JOANN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rsula,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52280" y="533520"/>
            <a:ext cx="8686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Tiffani, Ammie, John, Mark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1828800"/>
            <a:ext cx="8534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762120" y="20574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ASUND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1981080"/>
            <a:ext cx="8382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Kisses.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45720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I LIKE SMILE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2120"/>
            <a:ext cx="94485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Here is DANIEL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143000" y="1981080"/>
            <a:ext cx="86104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Unice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3T16:57:09Z</dcterms:modified>
  <cp:revision>37</cp:revision>
  <dc:subject/>
  <dc:title>Home Row</dc:title>
</cp:coreProperties>
</file>