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869-DD01-4DB6-BF82-F399344D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098-0A4B-452C-B454-DEE45996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233C-CEAF-4AA3-A4CF-7D03E7EA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D91-7C24-40D4-B92C-A01622CA1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464-7192-4F8D-A8C5-F546008DE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4819-49BB-4388-A0B8-BF640EC5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42C-590F-4BAC-A337-59B61600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B836-A9D1-44AE-A555-E1932AE0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FB31-6248-4212-AEF1-B74386D13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B47F-AE58-4174-ABBA-01C32C02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3ED-DF34-4F2D-B6C9-02B971B3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73C-51F0-4C7C-8325-01C3D0FC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FAF-39D7-4970-92AE-A1605D89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364-1798-4AC9-8820-CE56178C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EE7-CE77-4432-BC79-0977977D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22F-F823-42EE-83FE-E003AE4B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867-7424-44A3-8F04-C90F3543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457-65CB-41CB-8119-C1563FE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CE5-5DF1-4026-8AD0-DC077225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6EA-BC13-46E6-8AC8-DD7C0D4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4B9-77E3-4F58-9F7E-BD8D1391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831-BC79-48BF-AFC5-61FBE78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3DC-5629-4F86-B86B-3C386E7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3151-2F22-44A5-9696-D5C69BD7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, U, CAP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09480" y="10666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nnah, Loretta, JOANN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rsula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2280" y="53352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Tiffani, Ammie, John, Mar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1828800"/>
            <a:ext cx="8534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62120" y="20574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ASUND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1981080"/>
            <a:ext cx="8382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isses.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45720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I LIKE SMILE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2120"/>
            <a:ext cx="94485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Here is DANIEL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143000" y="1981080"/>
            <a:ext cx="86104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Unice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3T16:57:09Z</dcterms:modified>
  <cp:revision>37</cp:revision>
  <dc:subject/>
  <dc:title>Home Row</dc:title>
</cp:coreProperties>
</file>