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hamm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BAA6-865D-4376-8740-4ADB8273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80B-E49A-47E1-9B70-2D464797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BAF-9A9C-4EA9-9407-C6EF3B2D5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F619-AA0C-4FC0-BC76-27557C1F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CF9-1E30-4238-8D85-AB8D29A1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B825-E9F3-4580-AB35-26D969689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E1BF-7208-4D07-813B-62B0A9C92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596-0C2D-4895-87B0-2C498C32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6473-02F6-4DA4-A530-498E8337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25E-8BE2-4AA2-AA77-8103750DF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3092-94B5-46A8-B7D6-53F17A54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6D4-0851-4538-98C8-40D7FB62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B65-571F-42FA-A957-34545D9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2BC-C925-4ED6-9806-A58C10AF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B7F-5439-42CE-AB8B-43A215D4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E95-DE4C-42C1-B59A-ED0F37F6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F6F-68DB-4B58-97CC-C62863FA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819-DBB4-41FF-AC8A-CAF76242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CA8-0FBA-4A66-B020-24F011EB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5E3-B7E3-4A19-8E00-22FCC64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8AC1-9FF4-44AD-A8C6-7718A4F3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8CC-C513-452E-AF1A-119CF0F6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22B-9633-4F1A-9C5D-EA018DC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4FD2-1BED-44DA-869F-96B1C0982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523520"/>
            <a:ext cx="7543800" cy="327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I,.,R.Shif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1676520"/>
            <a:ext cx="9372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Alice the Camel.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52280" y="1981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Andrea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066680" y="1905120"/>
            <a:ext cx="76201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1752480"/>
            <a:ext cx="9448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Traci.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8600" y="1828800"/>
            <a:ext cx="8534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Dr. Ros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8600" y="182880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This is it.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38080" y="17524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Kermit.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3880"/>
            <a:ext cx="88394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Lt. Track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04920" y="190512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Mr. Slickster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11:57Z</dcterms:modified>
  <cp:revision>29</cp:revision>
  <dc:subject/>
  <dc:title>Home Row</dc:title>
</cp:coreProperties>
</file>