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hamme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AD16-F465-4115-B8F3-279A72A83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1823-941F-402D-97B7-C021C6E58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53B4-E0CF-4197-BEDC-8A3EFAE29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6570-E2AA-4694-BA42-B2DE89948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08A9-3AE3-4883-8E1C-D28396051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E9FA-46E7-453E-BE75-8A1A04455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E05B-0464-442D-BA36-884502915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66D8-D8C5-4625-9D7B-012A3CAFD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433A-5020-4796-8D86-3E9F2BAB3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80B8-F139-4BE6-BF9A-1DC481399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C530-20D1-4D79-A24F-842F94D62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FC3F-68DF-478F-9F4B-B9592811E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325D-1907-4CF3-8078-E2F73F58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C07D-F0FB-4317-A60D-52259B22C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AEF9-3440-466D-9224-F1E314F98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2862-86D6-41E1-952A-878B4AB8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80B7-0A84-42E4-89EB-4B97BEBE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421E-E901-4CF1-B1AD-71F652DC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F7D1-84CA-41D3-A204-B5F84783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EB3D-5447-45FF-9A9E-1ABEBE06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19CF-2A04-4960-B37F-ACFB2688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039D-DB6E-477C-AAE7-18CF0613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E987-90F8-4160-85EA-BB11F809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7E7C-8F44-48B9-BFFB-1BCE34C55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1523520"/>
            <a:ext cx="7543800" cy="327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Keystroke"/>
                <a:ea typeface="Keystroke"/>
              </a:rPr>
              <a:t></a:t>
            </a:r>
            <a:br>
              <a:rPr sz="10000"/>
            </a:br>
            <a:r>
              <a:rPr b="0" lang="en-US" sz="10000" spc="-1" strike="noStrike">
                <a:solidFill>
                  <a:srgbClr val="000000"/>
                </a:solidFill>
                <a:latin typeface="Keystroke"/>
                <a:ea typeface="Keystroke"/>
              </a:rPr>
              <a:t></a:t>
            </a:r>
            <a:r>
              <a:rPr b="0" lang="en-US" sz="10000" spc="-1" strike="noStrike">
                <a:solidFill>
                  <a:srgbClr val="000000"/>
                </a:solidFill>
                <a:latin typeface="Kabel Bk BT"/>
              </a:rPr>
              <a:t>I,.,R.Shif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0" y="1676520"/>
            <a:ext cx="93726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Alice the Camel.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152280" y="19810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Arial"/>
              </a:rPr>
              <a:t>Andrea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066680" y="1905120"/>
            <a:ext cx="76201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Father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0" y="1752480"/>
            <a:ext cx="9448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0" spc="-1" strike="noStrike">
                <a:solidFill>
                  <a:srgbClr val="000000"/>
                </a:solidFill>
                <a:latin typeface="Arial"/>
              </a:rPr>
              <a:t>Traci.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228600" y="1828800"/>
            <a:ext cx="85345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0" spc="-1" strike="noStrike">
                <a:solidFill>
                  <a:srgbClr val="000000"/>
                </a:solidFill>
                <a:latin typeface="Arial"/>
              </a:rPr>
              <a:t>Dr. Ross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28600" y="1828800"/>
            <a:ext cx="914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This is it.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838080" y="1752480"/>
            <a:ext cx="7772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Arial"/>
              </a:rPr>
              <a:t>Kermit.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1523880"/>
            <a:ext cx="883944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0" spc="-1" strike="noStrike">
                <a:solidFill>
                  <a:srgbClr val="000000"/>
                </a:solidFill>
                <a:latin typeface="Arial"/>
              </a:rPr>
              <a:t>Lt. Track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04920" y="1905120"/>
            <a:ext cx="8610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Mr. Slickster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5:27:38Z</dcterms:created>
  <dc:creator>Ryan Kameron Oldroyd</dc:creator>
  <dc:description/>
  <dc:language>en-US</dc:language>
  <cp:lastModifiedBy>megan.rees</cp:lastModifiedBy>
  <dcterms:modified xsi:type="dcterms:W3CDTF">2010-02-04T17:11:57Z</dcterms:modified>
  <cp:revision>29</cp:revision>
  <dc:subject/>
  <dc:title>Home Row</dc:title>
</cp:coreProperties>
</file>