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99A2-8B74-4378-A68D-06F2F481C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6123-CF46-4745-9C9C-A848CC139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DF9B-07DB-4CBF-99E6-1E18D8B94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061A-ADD2-4896-88C6-B8CE0E5F9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C79E-2A45-4E93-B794-51E7817BD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6460-17BE-4882-95C7-12762B0FC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E364-A0DA-4CF9-AB5F-41A971751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9395-D376-451C-8B23-9434D2333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02AA-CBD6-4A40-8A93-E848B99E7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972F-9DEF-432C-AA6D-62B32782F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E9C2-7413-4EFA-8D04-D26B58654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CF5-6A87-47D5-B940-B4616633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A12-9BA0-49F6-94C8-BBC37103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9E3-991C-4311-919D-D15E96FC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D61-4B51-4080-8A3A-EB71ECF6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F4E-5044-4EF1-9E42-2E86BE97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26E-4F41-4F8C-8533-87C74E07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C2C7-A6DA-4165-95CB-98D8A83C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FEA-5BB9-4BDD-992C-7F579870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34F-7283-4E4D-8466-A8AC135B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F1A-A2E7-441F-A3A3-BF01FB7B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D14-A387-42EE-89D2-8D64FC60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838-2316-40F4-BD29-96798742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E5B9-B0F7-423D-8266-F2CA01A7A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</a:t>
            </a:r>
            <a:r>
              <a:rPr b="0" lang="en-US" sz="10000" spc="-1" strike="noStrike">
                <a:solidFill>
                  <a:srgbClr val="000000"/>
                </a:solidFill>
                <a:latin typeface="Kabel Bk BT"/>
              </a:rPr>
              <a:t>M,C, Left SHIF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990720" y="1676520"/>
            <a:ext cx="7467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ham and chees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190512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Jordan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57200" y="914400"/>
            <a:ext cx="845820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1676520"/>
            <a:ext cx="8458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Jackso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04920" y="1752480"/>
            <a:ext cx="86868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000000"/>
                </a:solidFill>
                <a:latin typeface="Arial"/>
              </a:rPr>
              <a:t>cocoon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1828800"/>
            <a:ext cx="9524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mammot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762120" y="1828800"/>
            <a:ext cx="78483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Karl and Ken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57200" y="1981080"/>
            <a:ext cx="830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Jared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990720" y="1371600"/>
            <a:ext cx="746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over dir="d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04T17:12:00Z</dcterms:modified>
  <cp:revision>25</cp:revision>
  <dc:subject/>
  <dc:title>Home Row</dc:title>
</cp:coreProperties>
</file>