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FC1C-0956-43D4-9ED8-AD3E81D05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A93D-4D3D-4F87-B2DC-099A4EC75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7CCE-1810-4AD1-9AFC-7C2D3A0A8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781C-3029-4646-A633-5537DD9FE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E391-3F0F-49F7-BF51-8F75E3A5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EE10-4CAC-4007-9BC5-66F23E6A7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A9E7-C951-4A3F-B7FF-FAAAA14E9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179E-59BC-4AB5-8725-1D12D979D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AEDC-96EE-4809-B283-9CCF9B626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3C04-DDA8-4431-AB6F-18CBC981D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EAAB-EE1F-46DA-9F88-B52337447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67D-8D55-408B-AC38-C426D1DE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19F-3042-45A9-AE0D-02B6A236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F33-A767-4F5B-B2CE-5A2E61C0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D20-0644-42B6-B833-DDF0AABC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9CD-296E-4C51-9526-ED84BC35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EAEF-858D-4915-993A-0A598A3C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70E-E3FA-42C4-BE1E-81DE4A2D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6BF-B117-4553-8BAA-C299DDBB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F7F-A395-43FD-AE6C-9B0C28D3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400-6403-484F-B8C0-DFD29C1B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1F32-F82A-436E-9CD1-28DE7A0D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ADC-1889-45C3-BC47-8144E3A1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20FD-DEDF-4D58-9344-BB91C4A96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M,C, Left SHIF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990720" y="1676520"/>
            <a:ext cx="7467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ham and chees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9051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57200" y="914400"/>
            <a:ext cx="84582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1676520"/>
            <a:ext cx="8458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Jackso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04920" y="1752480"/>
            <a:ext cx="86868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cocoon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1828800"/>
            <a:ext cx="9524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mammot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62120" y="1828800"/>
            <a:ext cx="7848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Karl and Ken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57200" y="1981080"/>
            <a:ext cx="830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Jared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990720" y="1371600"/>
            <a:ext cx="746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12:00Z</dcterms:modified>
  <cp:revision>25</cp:revision>
  <dc:subject/>
  <dc:title>Home Row</dc:title>
</cp:coreProperties>
</file>