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937F-A281-454A-ADA6-82EA4E1A1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B39D-A1CD-40EE-9730-3E1516E1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F45-F452-4601-841B-7794AC03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E5BF-1174-40DE-B518-2F498B76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E6CD-CEB5-4935-A799-39F61C38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BEE4-88B2-41F0-AA3B-07873B79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30A5-59CF-485A-905E-6A29F4913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E1CC-51F9-4B3A-B6B5-50E0F9F6E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DB08-3F0A-48C9-8F2C-6C5CE408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709B-E6BF-4830-9A40-39871FDDC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3051-21D2-4E7A-96A4-203AEA6FB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137-0348-4D85-A6C0-6CB28A05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234-50E9-4827-B165-378A9FDE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C2A-4957-49AD-9020-4D8347B2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751-AE92-4696-AA5C-CE477452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453-EC8B-4E2B-8F52-AFC773AB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7C8-41AB-464A-ACE6-297FF15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F93-CEA8-46E6-AA97-34F8A7FE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422-B0C4-449D-9DFD-BF61152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FB9-9000-476B-8DE8-9006921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090-67B9-4215-84BD-971A47C4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A95-6389-4C7F-A422-25B111BB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426-0BB8-450E-872A-7221E695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25CD-BD9B-4A16-880B-7404F35F5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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33520" y="190512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sooner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838080" y="1752480"/>
            <a:ext cx="7772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rne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33520" y="18288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8600" y="1752480"/>
            <a:ext cx="861048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lore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066680" y="1905120"/>
            <a:ext cx="7620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jokest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09480" y="1676520"/>
            <a:ext cx="7848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near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1600200"/>
            <a:ext cx="10210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819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assorted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05:25Z</dcterms:modified>
  <cp:revision>30</cp:revision>
  <dc:subject/>
  <dc:title>Home Row</dc:title>
</cp:coreProperties>
</file>