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push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17D22-3498-4EDE-B43F-CEBEE52CA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F3108-1EF7-4625-873A-AECCFC101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BBEBD-8C0B-4897-AF07-5867702DD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5FA2A-A977-445F-9B76-4FCDCEDFD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98B7A-53CB-4FAD-9507-BEC6C28AF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4A595-498C-470C-BCD5-04CF58F0F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8CBA3-C4F9-4C2C-900F-70AD99FE5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413F2-483F-4B4A-B5F5-68C659AC3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5F1A3-56F4-4711-8FAB-A1C96AFA7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F7CF8-D33E-4200-B2F7-F4CFFE382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534A7-E705-46D4-861C-E9185D7C3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3322-47A5-4D65-866F-F1FF594A9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6184-8426-4989-BED8-720B00EC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02C7-ABE8-4325-8A29-FF1FEE829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7D1B-89D9-44D4-9FBD-C18195001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7D67-7DBC-4FBA-92EC-B9DC47786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0AF0-A696-49AA-A636-B1C30E94D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806A-0129-441F-BDE2-D45E7F33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3412-2C41-4FD1-9A92-DE240BBC9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9C0E-6F07-43E4-A423-5B91CF103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54D1-1173-4ADD-A4C0-936A2039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4CFE-FBCE-437A-B384-6F257E69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59F4-C5A4-476E-9A51-5CFCBBE5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327F6-2665-4EB6-B8A5-92071F114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Keystroke"/>
                <a:ea typeface="Keystroke"/>
              </a:rPr>
              <a:t>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533520" y="1905120"/>
            <a:ext cx="8381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0" spc="-1" strike="noStrike">
                <a:solidFill>
                  <a:srgbClr val="000000"/>
                </a:solidFill>
                <a:latin typeface="Arial"/>
              </a:rPr>
              <a:t>sooner</a:t>
            </a:r>
            <a:endParaRPr b="0" lang="en-US" sz="1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838080" y="1752480"/>
            <a:ext cx="77724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hornet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533520" y="182880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honor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228600" y="1752480"/>
            <a:ext cx="861048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0" spc="-1" strike="noStrike">
                <a:solidFill>
                  <a:srgbClr val="000000"/>
                </a:solidFill>
                <a:latin typeface="Arial"/>
              </a:rPr>
              <a:t>lore</a:t>
            </a:r>
            <a:endParaRPr b="0" lang="en-US" sz="1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1066680" y="1905120"/>
            <a:ext cx="76201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door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228600" y="1828800"/>
            <a:ext cx="8534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Arial"/>
              </a:rPr>
              <a:t>jokester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609480" y="1676520"/>
            <a:ext cx="78487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nearer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0" y="1600200"/>
            <a:ext cx="102106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2819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0" spc="-1" strike="noStrike">
                <a:solidFill>
                  <a:srgbClr val="000000"/>
                </a:solidFill>
                <a:latin typeface="Arial"/>
              </a:rPr>
              <a:t>assorted</a:t>
            </a:r>
            <a:endParaRPr b="0" lang="en-US" sz="1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15:27:38Z</dcterms:created>
  <dc:creator>Ryan Kameron Oldroyd</dc:creator>
  <dc:description/>
  <dc:language>en-US</dc:language>
  <cp:lastModifiedBy>megan.rees</cp:lastModifiedBy>
  <dcterms:modified xsi:type="dcterms:W3CDTF">2010-02-04T17:05:25Z</dcterms:modified>
  <cp:revision>30</cp:revision>
  <dc:subject/>
  <dc:title>Home Row</dc:title>
</cp:coreProperties>
</file>