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CDF-55C2-43D0-8C7A-A64AEEA1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1C22-4815-4F88-A177-BCAB3981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3798-699F-4DDC-B8DE-C9030CFB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FD26-648A-4F3A-9983-A5C165E0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9234-6828-40DE-8331-60CA94DC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755C-5665-4D5F-A595-FC7D500A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3FA5-FEFB-41EE-8962-AB2E2638B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BA8-DADE-4FF2-887B-D18438343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EFA2-592C-4911-AA8F-FB181C91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344A-8A30-4C3B-9453-872D8A3C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CFB-81EF-4739-81F4-A17EB16C2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5FF-9D6E-4DC7-8C5D-9E106F20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499-DF1A-4869-AF5D-80911924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C18-CEC5-4AF6-B9DC-EE13C3D7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D5B-121E-4453-BBE3-1034E437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E465-F7BA-4342-85C5-C7392FFB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F895-21DC-4A40-B460-77B3C3C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35F-BA54-4B1F-83E3-483AD784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C1E-949E-4EEE-A690-10300C5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DBF-A9BB-438D-BD15-962197B0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3B0-7FA3-4144-8940-5555072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60E-4919-4C37-BD13-E9978652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3E2-AD7A-465A-BC7A-C44D0E7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2469-F9BD-4684-A282-657271FE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69608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H, E, 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ell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28800" y="1828800"/>
            <a:ext cx="6248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23880" y="1752480"/>
            <a:ext cx="6934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90720" y="18288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ats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00200" y="1905120"/>
            <a:ext cx="5943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676520" y="1676520"/>
            <a:ext cx="746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lath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219320" y="1752480"/>
            <a:ext cx="670536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asked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1752480"/>
            <a:ext cx="7772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ate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76520" y="1905120"/>
            <a:ext cx="7619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12:05Z</dcterms:modified>
  <cp:revision>38</cp:revision>
  <dc:subject/>
  <dc:title>Home Row</dc:title>
</cp:coreProperties>
</file>