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D11C-9599-4D0B-B659-59B1CFAB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7948-9534-4FDD-8854-BC265674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F3D-882D-43A0-8C90-5B5AF8C8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26A-A927-4540-BF3D-054B397A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5B72-6D77-43D6-AA34-7969834BD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E67-B18E-4E2C-BB73-6B7C5906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4FA-0919-4019-934F-FFE3C10D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9B90-D802-4650-9FDB-D014B49D6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93D-2794-48DE-A6C3-1163B93B5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54AD-354C-470A-BEFC-9E4607CA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F5DB-F9E2-4169-AD5D-0EB1D6154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50B-E84A-4B27-8866-415E70C4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FC7-9131-4E7A-A821-87125962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81F-F338-4F3F-A514-162C7020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3772-A056-40DA-A011-5E2ED8A1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159-E9D4-4D2D-8397-4D2F2882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A0B1-E4DA-4A4C-AC63-E86EB059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A3B-E43E-441F-BC68-6277F0AB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285-E4AA-4E3F-85D3-33C16135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7EE-9835-4BEC-A3C5-FAE62E76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0B7-8B73-4F88-A1F3-BE8400C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8C6-A225-4363-9CE7-92A6CA3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A12-978D-427C-9BCC-3CCE8FCE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4AE1-A42B-4766-B705-001CA3E6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69608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, E, 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ell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28800" y="1828800"/>
            <a:ext cx="6248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23880" y="1752480"/>
            <a:ext cx="6934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90720" y="18288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a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00200" y="1905120"/>
            <a:ext cx="5943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676520" y="1676520"/>
            <a:ext cx="746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t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19320" y="1752480"/>
            <a:ext cx="67053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asked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1752480"/>
            <a:ext cx="7772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76520" y="1905120"/>
            <a:ext cx="7619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2:05Z</dcterms:modified>
  <cp:revision>38</cp:revision>
  <dc:subject/>
  <dc:title>Home Row</dc:title>
</cp:coreProperties>
</file>