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rolling.wav" ContentType="audio/x-wav"/>
  <Override PartName="/ppt/media/charlie_chewinggum.wav" ContentType="audio/x-wav"/>
  <Override PartName="/ppt/media/date.wav" ContentType="audio/x-wav"/>
  <Override PartName="/ppt/media/recess.wav" ContentType="audio/x-wav"/>
  <Override PartName="/ppt/media/manydays.wav" ContentType="audio/x-wav"/>
  <Override PartName="/ppt/media/longwords.wav" ContentType="audio/x-wav"/>
  <Override PartName="/ppt/media/homerlaw.wav" ContentType="audio/x-wav"/>
  <Override PartName="/ppt/media/insufferableknowitall.wav" ContentType="audio/x-wav"/>
  <Override PartName="/ppt/media/door_music.wav" ContentType="audio/x-wav"/>
  <Override PartName="/ppt/media/orangemochafrappuccin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B50A-1E45-4692-BB67-B41E6D14F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FCBE-1E65-4CE1-87E1-AE779FBD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C409-E353-4D09-987A-0049144D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8E77-B6F8-4020-A185-351E7D65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A46-370F-4CD5-870B-2ECB2C50D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74F-2BA4-4311-9E57-678C8B8F6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A4D5-BA65-49F0-8A43-AACE680D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CEC6-54DE-41A1-8E18-8B6EB882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5259-863D-4DC7-92B1-E1DA40A47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DCCF-6356-4EF7-B1F1-8E450938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D435-DC99-447E-91E9-97659554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21B-BCA8-403F-97F7-86861E23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495-53FF-4D50-8140-3790A18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441-DB0B-456D-9F5E-1C5B0A84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4CF-25C5-4F6B-A942-0787BB84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99E-E15B-472C-BAD6-1705F68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8EA-2166-4E4E-B87A-221C7AA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358-B20B-4129-A9F3-D3785B82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A37-FD26-4445-95A7-EE3B5B87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E3C-A55B-4689-A1B3-1D0AD30D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08F-73BA-4538-88C8-A62D5E17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1DAE-A3A2-4B24-B4B2-6F14E8D0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1724-AF2D-439C-8C50-E103B72C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89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6486-78FB-4B26-8FF4-DD2ABF507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rollin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orangemochafrappuccin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at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rece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manyday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arlie_chewinggum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ongword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omerla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insufferableknowita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oor_music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X,Y,Z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04920" y="1066680"/>
            <a:ext cx="93726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Texas and New York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80880" y="213372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457200" y="2133720"/>
            <a:ext cx="8534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excellen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609480"/>
            <a:ext cx="8610480" cy="58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monoxid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990720" y="457200"/>
            <a:ext cx="64008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Zingers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Yolanda and Zelda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6320" y="762120"/>
            <a:ext cx="883908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Mrs.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900" spc="-1" strike="noStrike">
                <a:solidFill>
                  <a:srgbClr val="000000"/>
                </a:solidFill>
                <a:latin typeface="Arial"/>
              </a:rPr>
              <a:t>Yamashita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28600" y="914400"/>
            <a:ext cx="8763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yellow and purple zebra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52280" y="1219320"/>
            <a:ext cx="861084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Mexico and Zimbabwe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32:31Z</dcterms:modified>
  <cp:revision>31</cp:revision>
  <dc:subject/>
  <dc:title>Home Row</dc:title>
</cp:coreProperties>
</file>