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olling.wav" ContentType="audio/x-wav"/>
  <Override PartName="/ppt/media/charlie_chewinggum.wav" ContentType="audio/x-wav"/>
  <Override PartName="/ppt/media/date.wav" ContentType="audio/x-wav"/>
  <Override PartName="/ppt/media/recess.wav" ContentType="audio/x-wav"/>
  <Override PartName="/ppt/media/manydays.wav" ContentType="audio/x-wav"/>
  <Override PartName="/ppt/media/longwords.wav" ContentType="audio/x-wav"/>
  <Override PartName="/ppt/media/homerlaw.wav" ContentType="audio/x-wav"/>
  <Override PartName="/ppt/media/insufferableknowitall.wav" ContentType="audio/x-wav"/>
  <Override PartName="/ppt/media/door_music.wav" ContentType="audio/x-wav"/>
  <Override PartName="/ppt/media/orangemochafrappuccino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FC2A-20E5-4265-A551-3483568A4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FCA5-567E-4325-A2B7-C69EC1A9B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FDE6-256A-4F0C-A542-2830E50BF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2586-C362-436C-9708-488BD9CA6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AD00-96E6-4BA5-B43F-E0BECA089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3185-87F6-452C-8132-916CA3735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C98F-23B3-4DA7-AD3D-CCBFEC2FF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2556-CFE0-4ED5-A022-636D0BA2E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B570-DB61-4E2A-9E1C-CD204C7A4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1E26-615E-4B1F-A81C-BBBFE7BD0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5B53-3940-4294-B56F-6BAA57504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961F-30D4-4E2F-9C02-F66D25FF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055-1915-4141-A4FC-E1209464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580-ADCD-48A4-8E46-AF5CB8AC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844A-940D-47CE-B84C-32F133A3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3D6-02A7-480E-8374-989872A9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7353-C8EA-40E5-8F99-B2210EBF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073-0EB5-4B60-8493-547A10EC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CB5-1E64-4A98-B35A-E3B1FDA2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EB2-4918-4573-B78B-48C95A16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FE4-F5F8-47EB-85BD-05B61349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F36-0E2A-43D0-8660-0FBA6773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19A-0D21-429E-A916-1731A19D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89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5D08-24CC-46B2-867C-9F91AFDD9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ollin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orangemochafrappuccin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at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rece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manyday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arlie_chewinggum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ongword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omerla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insufferableknowita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oor_music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</a:t>
            </a:r>
            <a:r>
              <a:rPr b="0" lang="en-US" sz="10000" spc="-1" strike="noStrike">
                <a:solidFill>
                  <a:srgbClr val="000000"/>
                </a:solidFill>
                <a:latin typeface="Kabel Bk BT"/>
              </a:rPr>
              <a:t>X,Y,Z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04920" y="1066680"/>
            <a:ext cx="93726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Texas and New York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80880" y="2133720"/>
            <a:ext cx="87631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57200" y="2133720"/>
            <a:ext cx="8534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excellen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28600" y="609480"/>
            <a:ext cx="861048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monoxid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990720" y="457200"/>
            <a:ext cx="64008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900" spc="-1" strike="noStrike">
                <a:solidFill>
                  <a:srgbClr val="000000"/>
                </a:solidFill>
                <a:latin typeface="Arial"/>
              </a:rPr>
              <a:t>Extra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900" spc="-1" strike="noStrike">
                <a:solidFill>
                  <a:srgbClr val="000000"/>
                </a:solidFill>
                <a:latin typeface="Arial"/>
              </a:rPr>
              <a:t>Zingers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90512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Yolanda and Zelda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76320" y="762120"/>
            <a:ext cx="883908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900" spc="-1" strike="noStrike">
                <a:solidFill>
                  <a:srgbClr val="000000"/>
                </a:solidFill>
                <a:latin typeface="Arial"/>
              </a:rPr>
              <a:t>Mrs.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900" spc="-1" strike="noStrike">
                <a:solidFill>
                  <a:srgbClr val="000000"/>
                </a:solidFill>
                <a:latin typeface="Arial"/>
              </a:rPr>
              <a:t>Yamashita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28600" y="914400"/>
            <a:ext cx="8763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yellow and purple zebra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52280" y="1219320"/>
            <a:ext cx="861084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Mexico and Zimbabwe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04T17:32:31Z</dcterms:modified>
  <cp:revision>31</cp:revision>
  <dc:subject/>
  <dc:title>Home Row</dc:title>
</cp:coreProperties>
</file>